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01BD-ABE0-4250-930E-5B82D1C2BA0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3187520" y="-10539360"/>
            <a:ext cx="14976720" cy="11231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08BA-A3F6-4019-9F8D-BE01DE0D9AC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B84-244F-4ED2-A816-35F10C6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6E2-A243-46C4-AB32-55BF8C6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EB9-CF0C-478B-9E4A-5FA69A3E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C67-DD18-4795-802E-2E1579E9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02F-3CEE-40A9-8C2E-9CF04CCE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B922-1746-47EF-8E67-2194F93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1577-4389-456F-84FB-0595B0E1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F8F-BA57-42E7-9D66-B28C1FB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1E38-9355-491B-9258-1D03C93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A92-74DB-444C-880B-0CA1CD6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5896-6F28-4EC2-8ABA-891BCE0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DD3-4B81-4AA1-B304-5CA20173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E89-429D-40AF-99B9-C5E46D5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174-4DBC-43E6-99E7-5F0DDA2D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620-8157-492C-88EE-BD4659B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B26-555D-45EE-81E6-C58774F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71F-1264-4BDF-B89B-C72E23D4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5BB1-3AE1-4512-87FA-7CFC91B2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025E-55A3-4C89-90B3-0B66031C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30B7-847C-4847-AF47-3BBC32B1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61AF-2DBD-48CB-BB1F-5E64CA1E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812CB-B34F-455B-9B9F-0629233A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E72-442A-4F77-AD93-B633D23D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7621B-72E2-4CD0-B5F1-7D8D660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D3D7-B5F5-447A-B227-0D7FDE5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00EB-E8D5-4406-8D07-9561871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EAEF-DDF7-4916-A96A-D2C1385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EE15-CD30-47C2-A7FA-17F51CD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631D-4FBA-4D42-B01A-69053989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DFFB-E557-4497-9B9B-ED4E7E00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AD3-C8CA-41E2-B979-5DBF3D7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5AA-E2EF-4D06-9DBA-D6A10FF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B1A-3051-438A-B603-D0FDAD4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31B-BF11-483A-94AD-29A3C41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7BB-9FC5-4B1D-AEAF-B8EB68A5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47D-5F4A-422A-AC8F-1C255D7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29122" t="0" r="0" b="0"/>
          <a:stretch/>
        </p:blipFill>
        <p:spPr>
          <a:xfrm>
            <a:off x="-609480" y="-2076480"/>
            <a:ext cx="9829800" cy="1202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96F-1CFB-46DE-8AD9-F3094578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rcRect l="43866" t="7142" r="0" b="33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295-886F-446A-943E-F7857AEEA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100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1" marL="519840" indent="-199800">
              <a:spcBef>
                <a:spcPts val="11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2" marL="799920" indent="-159840">
              <a:spcBef>
                <a:spcPts val="1100"/>
              </a:spcBef>
              <a:buClr>
                <a:srgbClr val="ffff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3" marL="1119960" indent="-159840">
              <a:spcBef>
                <a:spcPts val="1100"/>
              </a:spcBef>
              <a:buClr>
                <a:srgbClr val="ffffff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4" marL="1440000" indent="-159840">
              <a:spcBef>
                <a:spcPts val="1100"/>
              </a:spcBef>
              <a:buClr>
                <a:srgbClr val="ffffff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5" marL="1440000" indent="-159840">
              <a:spcBef>
                <a:spcPts val="11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lvl="6" marL="1440000" indent="-159840">
              <a:spcBef>
                <a:spcPts val="1100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標楷體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927-7041-464B-BD97-6643718D774A}" type="slidenum"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序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悟達國師傳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法入行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TW" sz="5400" spc="-1" strike="noStrike">
                <a:solidFill>
                  <a:srgbClr val="000000"/>
                </a:solidFill>
                <a:latin typeface="Arial"/>
              </a:rPr>
              <a:t>願力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168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00"/>
                </a:solidFill>
                <a:latin typeface="Arial"/>
              </a:rPr>
              <a:t>「牛汶水」用全糯米製成，黏黏的質感，有連結的寓意，祈求秧苗穩固成長，來日好收成的象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62120" y="106668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作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alibri"/>
                <a:ea typeface="標楷體"/>
              </a:rPr>
              <a:t>1.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糯米糰搓勻，分成小段揉成圓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形，中間壓一個凹窩，入沸水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煮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alibri"/>
                <a:ea typeface="標楷體"/>
              </a:rPr>
              <a:t>2.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浮起後，撈起入碗，加入黑糖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汁，再加花生粒或芝麻粒，就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   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當可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Calibri"/>
                <a:ea typeface="標楷體"/>
              </a:rPr>
              <a:t>3.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還可淋上</a:t>
            </a:r>
            <a:r>
              <a:rPr b="1" lang="zh-TW" sz="4000" spc="-1" strike="noStrike">
                <a:solidFill>
                  <a:srgbClr val="ff0066"/>
                </a:solidFill>
                <a:latin typeface="Calibri"/>
                <a:ea typeface="標楷體"/>
              </a:rPr>
              <a:t>滷汁，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是</a:t>
            </a:r>
            <a:r>
              <a:rPr b="1" lang="zh-TW" sz="4000" spc="-1" strike="noStrike">
                <a:solidFill>
                  <a:srgbClr val="ff0066"/>
                </a:solidFill>
                <a:latin typeface="Calibri"/>
                <a:ea typeface="標楷體"/>
              </a:rPr>
              <a:t>鹹的</a:t>
            </a:r>
            <a:r>
              <a:rPr b="1" lang="zh-TW" sz="4000" spc="-1" strike="noStrike">
                <a:solidFill>
                  <a:srgbClr val="993300"/>
                </a:solidFill>
                <a:latin typeface="Calibri"/>
                <a:ea typeface="標楷體"/>
              </a:rPr>
              <a:t>吃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SC01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材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糯米粉、黑糖、薑末、花生粉或堅果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http://djyimg.com/i6/1007211116311585.jpg"/>
          <p:cNvPicPr/>
          <p:nvPr/>
        </p:nvPicPr>
        <p:blipFill>
          <a:blip r:embed="rId1"/>
          <a:stretch/>
        </p:blipFill>
        <p:spPr>
          <a:xfrm>
            <a:off x="250920" y="3333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16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人間菩薩大招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社區活動訊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和氣組隊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1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感恩時刻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66"/>
                </a:solidFill>
                <a:latin typeface="Arial"/>
              </a:rPr>
              <a:t>祈禱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祈禱MV-2011歲末祝福版-繁體中文-下.wmv" descr=""/>
          <p:cNvPicPr/>
          <p:nvPr/>
        </p:nvPicPr>
        <p:blipFill>
          <a:blip r:embed="rId1"/>
          <a:stretch/>
        </p:blipFill>
        <p:spPr>
          <a:xfrm>
            <a:off x="1403280" y="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342152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16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993300"/>
                </a:solidFill>
                <a:latin typeface="Arial"/>
              </a:rPr>
              <a:t>祈禱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993300"/>
                </a:solidFill>
                <a:latin typeface="Arial"/>
              </a:rPr>
              <a:t>愛與關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3300"/>
                </a:solidFill>
                <a:latin typeface="Arial"/>
              </a:rPr>
              <a:t>~~~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198520" y="0"/>
            <a:ext cx="474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宏觀天下～微觀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地球災難頻傳，六道在人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我願為守護地球盡一分心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在生活中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我做到了吔</a:t>
            </a:r>
            <a:r>
              <a:rPr b="1" lang="zh-TW" sz="4400" spc="-1" strike="noStrike">
                <a:solidFill>
                  <a:srgbClr val="333399"/>
                </a:solidFill>
                <a:latin typeface="Arial"/>
              </a:rPr>
              <a:t>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73200" y="277920"/>
            <a:ext cx="82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【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法入行─願力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祝福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法隨法行，發大心，立大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福智圓滿，大懺悔，消罪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0" lang="zh-TW" sz="3600" spc="-1" strike="noStrike">
                <a:solidFill>
                  <a:srgbClr val="0000ff"/>
                </a:solidFill>
                <a:latin typeface="Arial"/>
              </a:rPr>
              <a:t>和氣讀書會團隊感恩合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"/>
          <p:cNvGrpSpPr/>
          <p:nvPr/>
        </p:nvGrpSpPr>
        <p:grpSpPr>
          <a:xfrm>
            <a:off x="2057400" y="1523880"/>
            <a:ext cx="4191120" cy="2743200"/>
            <a:chOff x="2057400" y="1523880"/>
            <a:chExt cx="4191120" cy="2743200"/>
          </a:xfrm>
        </p:grpSpPr>
        <p:sp>
          <p:nvSpPr>
            <p:cNvPr id="171" name="Oval 5"/>
            <p:cNvSpPr/>
            <p:nvPr/>
          </p:nvSpPr>
          <p:spPr>
            <a:xfrm>
              <a:off x="2057400" y="2971800"/>
              <a:ext cx="3962520" cy="12952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2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感恩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6" descr="S4"/>
            <p:cNvPicPr/>
            <p:nvPr/>
          </p:nvPicPr>
          <p:blipFill>
            <a:blip r:embed="rId1"/>
            <a:stretch/>
          </p:blipFill>
          <p:spPr>
            <a:xfrm>
              <a:off x="5181480" y="1523880"/>
              <a:ext cx="1067040" cy="23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920" y="1928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zh-TW" sz="9600" spc="-1" strike="noStrike">
                <a:solidFill>
                  <a:srgbClr val="000066"/>
                </a:solidFill>
                <a:latin typeface="Arial"/>
              </a:rPr>
              <a:t>法喜賦歸</a:t>
            </a:r>
            <a:r>
              <a:rPr b="0" lang="en-US" sz="5400" spc="-1" strike="noStrike">
                <a:solidFill>
                  <a:srgbClr val="262699"/>
                </a:solidFill>
                <a:latin typeface="標楷體"/>
              </a:rPr>
              <a:t> </a:t>
            </a:r>
            <a:br>
              <a:rPr sz="9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11大愛版13 果報障(至誠發願)_1.mp3" descr=""/>
          <p:cNvPicPr/>
          <p:nvPr/>
        </p:nvPicPr>
        <p:blipFill>
          <a:blip r:embed="rId1"/>
          <a:stretch/>
        </p:blipFill>
        <p:spPr>
          <a:xfrm>
            <a:off x="8880480" y="6273720"/>
            <a:ext cx="30492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5236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</a:rPr>
              <a:t>上人開示～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</a:rPr>
              <a:t>現在正是時候，人人應該要及時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</a:rPr>
              <a:t>覺悟，地球頻傳災難，莫以為在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標楷體"/>
              </a:rPr>
              <a:t>別人的國家，而莫不關心。</a:t>
            </a: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標楷體"/>
            </a:endParaRPr>
          </a:p>
        </p:txBody>
      </p:sp>
      <p:pic>
        <p:nvPicPr>
          <p:cNvPr id="137" name="Picture 2" descr="D:\謙謙的音樂圖片\圖片\各式圖片\慈濟\衲履足跡.jpg"/>
          <p:cNvPicPr/>
          <p:nvPr/>
        </p:nvPicPr>
        <p:blipFill>
          <a:blip r:embed="rId1"/>
          <a:stretch/>
        </p:blipFill>
        <p:spPr>
          <a:xfrm>
            <a:off x="6553080" y="0"/>
            <a:ext cx="2298960" cy="2395440"/>
          </a:xfrm>
          <a:prstGeom prst="rect">
            <a:avLst/>
          </a:prstGeom>
          <a:ln w="0">
            <a:noFill/>
          </a:ln>
        </p:spPr>
      </p:pic>
      <p:sp>
        <p:nvSpPr>
          <p:cNvPr id="138" name="文字方塊 1"/>
          <p:cNvSpPr/>
          <p:nvPr/>
        </p:nvSpPr>
        <p:spPr>
          <a:xfrm>
            <a:off x="3657600" y="5334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人間菩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20110313-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為天下事而承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3300"/>
                </a:solidFill>
                <a:latin typeface="Arial"/>
              </a:rPr>
              <a:t>政府政策與民間推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環保護地球需要政府民間一起努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教育部的推素政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台安醫院素食推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企業家傾力供素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3200" y="277920"/>
            <a:ext cx="82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【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法入行─願力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2658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微觀人生</a:t>
            </a: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為天下事而承擔， 就從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3300"/>
                </a:solidFill>
                <a:latin typeface="Arial"/>
              </a:rPr>
              <a:t>點滴開始吧～做就對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ff"/>
                </a:solidFill>
                <a:latin typeface="Arial"/>
              </a:rPr>
              <a:t>小螞蟻的小小願力行，我做到了吔記錄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73200" y="277920"/>
            <a:ext cx="82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【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  <a:ea typeface="標楷體"/>
              </a:rPr>
              <a:t>法入行─願力行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標楷體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妙手入經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4800"/>
            </a:br>
            <a:r>
              <a:rPr b="0" lang="zh-TW" sz="4800" spc="-1" strike="noStrike">
                <a:solidFill>
                  <a:srgbClr val="993300"/>
                </a:solidFill>
                <a:latin typeface="Arial"/>
              </a:rPr>
              <a:t>手語團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16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悲智印記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悟達國師傳奇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一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99cc00"/>
                </a:solidFill>
                <a:uFillTx/>
                <a:latin typeface="Arial"/>
              </a:rPr>
              <a:t>手語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演繹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TW" sz="4000" spc="-1" strike="noStrike" u="sng">
                <a:solidFill>
                  <a:srgbClr val="99cc00"/>
                </a:solidFill>
                <a:uFillTx/>
                <a:latin typeface="Arial"/>
              </a:rPr>
              <a:t>妙音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演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cc00"/>
                </a:solidFill>
                <a:uFillTx/>
                <a:latin typeface="Arial"/>
              </a:rPr>
              <a:t>手語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分解教學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TW" sz="4000" spc="-1" strike="noStrike" u="sng">
                <a:solidFill>
                  <a:srgbClr val="99cc00"/>
                </a:solidFill>
                <a:uFillTx/>
                <a:latin typeface="Arial"/>
              </a:rPr>
              <a:t>妙音</a:t>
            </a:r>
            <a:r>
              <a:rPr b="0" lang="zh-TW" sz="4000" spc="-1" strike="noStrike">
                <a:solidFill>
                  <a:srgbClr val="0000ff"/>
                </a:solidFill>
                <a:latin typeface="Arial"/>
              </a:rPr>
              <a:t>分解教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cc00"/>
                </a:solidFill>
                <a:uFillTx/>
                <a:latin typeface="Arial"/>
              </a:rPr>
              <a:t>手語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16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993300"/>
                </a:solidFill>
                <a:latin typeface="Arial"/>
              </a:rPr>
              <a:t>每週一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00"/>
                </a:solidFill>
                <a:latin typeface="Arial"/>
              </a:rPr>
              <a:t>客家美食－牛汶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Arial"/>
              </a:rPr>
              <a:t>章月美師姊提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1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感恩時刻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168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        </a:t>
            </a: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「牛汶水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這道客家糯米麻糬蘸黑糖水的點心形似「牛汶水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333300"/>
                </a:solidFill>
                <a:latin typeface="Arial"/>
              </a:rPr>
              <a:t>早期臺灣許多農家，在炎炎夏日的午後將水牛牽到河邊泡在水裡避暑，群牛泡水時，只露出頭與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客家美食－牛汶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securedownloadCA6S3E9E"/>
          <p:cNvPicPr/>
          <p:nvPr/>
        </p:nvPicPr>
        <p:blipFill>
          <a:blip r:embed="rId1"/>
          <a:stretch/>
        </p:blipFill>
        <p:spPr>
          <a:xfrm>
            <a:off x="826920" y="1484280"/>
            <a:ext cx="6858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50" name="群組 3"/>
          <p:cNvGrpSpPr/>
          <p:nvPr/>
        </p:nvGrpSpPr>
        <p:grpSpPr>
          <a:xfrm>
            <a:off x="7684920" y="6216480"/>
            <a:ext cx="1006920" cy="307080"/>
            <a:chOff x="7684920" y="6216480"/>
            <a:chExt cx="1006920" cy="307080"/>
          </a:xfrm>
        </p:grpSpPr>
        <p:sp>
          <p:nvSpPr>
            <p:cNvPr id="151" name="矩形 4"/>
            <p:cNvSpPr/>
            <p:nvPr/>
          </p:nvSpPr>
          <p:spPr>
            <a:xfrm>
              <a:off x="7684920" y="6216480"/>
              <a:ext cx="1006920" cy="30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字方塊 1"/>
            <p:cNvSpPr/>
            <p:nvPr/>
          </p:nvSpPr>
          <p:spPr>
            <a:xfrm>
              <a:off x="7869240" y="6216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70c0"/>
                  </a:solidFill>
                  <a:latin typeface="Arial"/>
                  <a:ea typeface="新細明體"/>
                </a:rPr>
                <a:t>翻攝自網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3:53:46Z</dcterms:created>
  <dc:creator>user</dc:creator>
  <dc:description/>
  <dc:language>en-US</dc:language>
  <cp:lastModifiedBy>User</cp:lastModifiedBy>
  <dcterms:modified xsi:type="dcterms:W3CDTF">2018-05-14T05:12:48Z</dcterms:modified>
  <cp:revision>330</cp:revision>
  <dc:subject/>
  <dc:title>投影片 1</dc:title>
</cp:coreProperties>
</file>