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gif" ContentType="image/gif"/>
  <Override PartName="/ppt/media/image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18E-4EF1-4ECB-933C-BE9027EE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E34-3566-4DAE-B648-AAE42CC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7AF-818E-452D-B26C-7959A73D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09A-0B76-44BF-AE48-3B90FE2D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390-E4A7-4F59-91C0-53D448EE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DB9D-F969-479D-A805-2E2656DD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1A2C-0CF8-429D-9846-5F44C17B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0DF-32A2-48E7-8231-5747BD5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0C8-EF0D-45C8-A1C1-7FF05C4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2E5-E7AA-4957-9CCD-04D24EE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ADB6-B417-435C-83FB-2866AF5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B5B-4CF2-4FF6-87DE-C4F22DEF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53E2-1E93-410D-B437-AC8F24E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B06B-DA01-43F3-80FA-6994D72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68C8-41B1-45B6-80A4-AB5E345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E1B4-465B-406E-977B-8BEBCC30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5EDF-DCC8-441D-B41A-17C14BD2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DEDA-B245-466D-BC19-8E4BA11A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AAC5-8B12-4255-9C71-8D05730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E732-B400-491D-AABD-D4DD1F0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1C7E-E9D3-4E74-92C0-39E27EC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B0C9-0E70-4319-8168-32CAB0C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154-4A04-4AAE-A17A-3CF9B5B9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A16B-C27F-4BA8-AF7F-6A44D31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71FD-0B76-4E03-9B19-71CECB4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34C1-3FB8-4C6F-9141-DCD1D2B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629C-E198-449C-9750-44776C5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5854-3610-4C67-984F-3402B56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C01F-8A17-4432-9BE3-ECEEB431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6A4DA-D1D5-4353-9527-06D34EDF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BE99-9585-431E-ACE6-D2F44C8C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28DB-C9DA-4CF6-956B-33523503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FB7F-FA26-446B-A30C-7407C3D7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D2F-3EDE-41C0-8660-155A13C7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9639-F8D3-486A-86A5-2A76E17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C9A4-37FF-471B-BC2F-FA43D710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80AA-B2F1-41DE-9CC0-C099F66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8170-7EF7-4E44-8B50-F0F0046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5F83-E2A4-43D7-9B01-617DB04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E0E3-CF7B-43CD-A5B1-4E61D42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883D-95C7-4DEA-B4F2-977B4A6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57F8-359C-4D64-8E06-C7717CC9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045F1-D204-480F-AE23-34FB6485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0C0-78CB-435C-89AC-E93BE26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EE0-B75F-4B10-B9AB-3DE66BE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40E-93C0-4BC6-A3E1-4960CBE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EAE-8858-4B48-A957-4B97819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C70-B01F-40A6-A336-EBD8AFB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AB91-CC7C-42F2-ADF0-C6FB4DCA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rcRect l="0" t="0" r="34030" b="26863"/>
          <a:stretch/>
        </p:blipFill>
        <p:spPr>
          <a:xfrm>
            <a:off x="0" y="-1251000"/>
            <a:ext cx="9144000" cy="810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5FFE-7801-4777-97D9-44B978E7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rcRect l="0" t="0" r="34030" b="26863"/>
          <a:stretch/>
        </p:blipFill>
        <p:spPr>
          <a:xfrm>
            <a:off x="0" y="-1251000"/>
            <a:ext cx="14652720" cy="114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951A-CFFF-449F-BD99-483D8EF45E83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27D-9507-4B26-BEE3-01F9A945013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20120307&#22823;&#24859;&#26032;&#32862;_&#31890;&#31859;&#28404;&#27700;&#30342;&#29645;&#36020;%20&#39154;&#39135;&#20843;&#20998;&#39165;.mp4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-757080" y="835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116000" y="1916280"/>
            <a:ext cx="61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800000"/>
                </a:solidFill>
                <a:latin typeface="標楷體"/>
                <a:ea typeface="標楷體"/>
              </a:rPr>
              <a:t>人心清淨 消弭災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800000"/>
                </a:solidFill>
                <a:latin typeface="標楷體"/>
                <a:ea typeface="標楷體"/>
              </a:rPr>
              <a:t>人人造福 福滿乾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3995640" y="602136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12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「菩提心要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4428360" y="3274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971640" y="81756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66"/>
                </a:solidFill>
                <a:latin typeface="標楷體"/>
                <a:ea typeface="標楷體"/>
              </a:rPr>
              <a:t>法入行─願力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圖片1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9"/>
          <p:cNvGrpSpPr/>
          <p:nvPr/>
        </p:nvGrpSpPr>
        <p:grpSpPr>
          <a:xfrm>
            <a:off x="-109440" y="-103320"/>
            <a:ext cx="4465440" cy="1371600"/>
            <a:chOff x="-109440" y="-103320"/>
            <a:chExt cx="4465440" cy="1371600"/>
          </a:xfrm>
        </p:grpSpPr>
        <p:sp>
          <p:nvSpPr>
            <p:cNvPr id="287" name="Oval 8"/>
            <p:cNvSpPr/>
            <p:nvPr/>
          </p:nvSpPr>
          <p:spPr>
            <a:xfrm>
              <a:off x="-109440" y="-49680"/>
              <a:ext cx="4465440" cy="1013040"/>
            </a:xfrm>
            <a:prstGeom prst="ellipse">
              <a:avLst/>
            </a:prstGeom>
            <a:gradFill rotWithShape="0">
              <a:gsLst>
                <a:gs pos="0">
                  <a:srgbClr val="5f5f9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8" name="矩形 2" descr=""/>
            <p:cNvPicPr/>
            <p:nvPr/>
          </p:nvPicPr>
          <p:blipFill>
            <a:blip r:embed="rId2"/>
            <a:stretch/>
          </p:blipFill>
          <p:spPr>
            <a:xfrm>
              <a:off x="92160" y="-103320"/>
              <a:ext cx="415116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矩形 3" descr=""/>
          <p:cNvPicPr/>
          <p:nvPr/>
        </p:nvPicPr>
        <p:blipFill>
          <a:blip r:embed="rId3"/>
          <a:stretch/>
        </p:blipFill>
        <p:spPr>
          <a:xfrm>
            <a:off x="6480" y="1341360"/>
            <a:ext cx="6875280" cy="1603440"/>
          </a:xfrm>
          <a:prstGeom prst="rect">
            <a:avLst/>
          </a:prstGeom>
          <a:ln w="0">
            <a:noFill/>
          </a:ln>
        </p:spPr>
      </p:pic>
      <p:sp>
        <p:nvSpPr>
          <p:cNvPr id="290" name="矩形 4"/>
          <p:cNvSpPr/>
          <p:nvPr/>
        </p:nvSpPr>
        <p:spPr>
          <a:xfrm>
            <a:off x="468360" y="256536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列出最迫切想要改變的前三項目，盡量具體，例如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吝嗇、愛生氣、迷戀某人某物某習慣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-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7" descr="圖片1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"/>
          <p:cNvSpPr/>
          <p:nvPr/>
        </p:nvSpPr>
        <p:spPr>
          <a:xfrm>
            <a:off x="539640" y="211284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個項目都大幅減少想要的欲望後，直到滅除這習氣後，再找另外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個習氣，繼續「除習氣」，充分掌握生命的方向與生活的品質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圖片1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108000" y="1052640"/>
          <a:ext cx="8894880" cy="4781520"/>
        </p:xfrm>
        <a:graphic>
          <a:graphicData uri="http://schemas.openxmlformats.org/drawingml/2006/table">
            <a:tbl>
              <a:tblPr/>
              <a:tblGrid>
                <a:gridCol w="1379520"/>
                <a:gridCol w="3625920"/>
                <a:gridCol w="2016000"/>
                <a:gridCol w="1873440"/>
              </a:tblGrid>
              <a:tr h="14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編號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習氣項目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覺察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除習氣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4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圖片1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1" descr=""/>
          <p:cNvPicPr/>
          <p:nvPr/>
        </p:nvPicPr>
        <p:blipFill>
          <a:blip r:embed="rId2"/>
          <a:stretch/>
        </p:blipFill>
        <p:spPr>
          <a:xfrm>
            <a:off x="-36360" y="-146160"/>
            <a:ext cx="978372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50920" y="1222200"/>
          <a:ext cx="8569080" cy="493740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1800000"/>
                <a:gridCol w="1008000"/>
                <a:gridCol w="1513080"/>
                <a:gridCol w="1800000"/>
              </a:tblGrid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使用電力度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與上期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比較減少幾度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使用電力度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與上期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比較減少幾度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二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八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09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四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十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六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7" descr="圖片1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-719280" y="875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24000" y="10098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標楷體"/>
                <a:ea typeface="標楷體"/>
              </a:rPr>
              <a:t>1.</a:t>
            </a:r>
            <a:r>
              <a:rPr b="1" lang="zh-TW" sz="5400" spc="-1" strike="noStrike">
                <a:solidFill>
                  <a:srgbClr val="ff9900"/>
                </a:solidFill>
                <a:latin typeface="標楷體"/>
                <a:ea typeface="標楷體"/>
              </a:rPr>
              <a:t>生活中是否也遇到「罟網」？如何揮慧劍斬除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請列舉出你認為最想改的習氣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配合習氣清單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？如何做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152360" y="-720"/>
            <a:ext cx="511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\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問答或引導問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圖片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cid:image001.gif@01C6FC2E.78DA85C0"/>
          <p:cNvPicPr/>
          <p:nvPr/>
        </p:nvPicPr>
        <p:blipFill>
          <a:blip r:embed="rId2"/>
          <a:stretch/>
        </p:blipFill>
        <p:spPr>
          <a:xfrm>
            <a:off x="5651640" y="5157720"/>
            <a:ext cx="714240" cy="13780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"/>
          <p:cNvSpPr/>
          <p:nvPr/>
        </p:nvSpPr>
        <p:spPr>
          <a:xfrm>
            <a:off x="0" y="1197000"/>
            <a:ext cx="86979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rmAutofit fontScale="28000"/>
          </a:bodyPr>
          <a:p>
            <a:pPr marL="10800" indent="-10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zh-TW" sz="6600" spc="-1" strike="noStrike">
                <a:solidFill>
                  <a:srgbClr val="ffffff"/>
                </a:solidFill>
                <a:latin typeface="標楷體"/>
                <a:ea typeface="標楷體"/>
              </a:rPr>
              <a:t>祝福大家</a:t>
            </a:r>
            <a:br>
              <a:rPr sz="6600"/>
            </a:br>
            <a:r>
              <a:rPr b="1" lang="zh-TW" sz="6600" spc="-1" strike="noStrike">
                <a:solidFill>
                  <a:srgbClr val="ffffff"/>
                </a:solidFill>
                <a:latin typeface="標楷體"/>
                <a:ea typeface="標楷體"/>
              </a:rPr>
              <a:t>時時心寬  日日念純</a:t>
            </a:r>
            <a:br>
              <a:rPr sz="6600"/>
            </a:br>
            <a:r>
              <a:rPr b="1" lang="zh-TW" sz="6600" spc="-1" strike="noStrike">
                <a:solidFill>
                  <a:srgbClr val="ffffff"/>
                </a:solidFill>
                <a:latin typeface="標楷體"/>
                <a:ea typeface="標楷體"/>
              </a:rPr>
              <a:t>福慧圓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04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800000"/>
                </a:solidFill>
                <a:latin typeface="標楷體"/>
                <a:ea typeface="標楷體"/>
              </a:rPr>
              <a:t>需要？想要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TFM4JG9bieGmRsM8BQFF04-yQuymmOc5BvgBq6RGpShNptiReP"/>
          <p:cNvPicPr/>
          <p:nvPr/>
        </p:nvPicPr>
        <p:blipFill>
          <a:blip r:embed="rId1"/>
          <a:stretch/>
        </p:blipFill>
        <p:spPr>
          <a:xfrm>
            <a:off x="395280" y="2840040"/>
            <a:ext cx="3097080" cy="2733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8tDFUPfxZUqOAnh0Lu6kWoflGmkYn3tm9W-MQ-t_wwsL2XnDbCQ"/>
          <p:cNvPicPr/>
          <p:nvPr/>
        </p:nvPicPr>
        <p:blipFill>
          <a:blip r:embed="rId2"/>
          <a:stretch/>
        </p:blipFill>
        <p:spPr>
          <a:xfrm>
            <a:off x="5219640" y="2695680"/>
            <a:ext cx="2664000" cy="2663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0"/>
          <p:cNvSpPr/>
          <p:nvPr/>
        </p:nvSpPr>
        <p:spPr>
          <a:xfrm>
            <a:off x="3852720" y="3487680"/>
            <a:ext cx="1224000" cy="1150920"/>
          </a:xfrm>
          <a:prstGeom prst="plus">
            <a:avLst>
              <a:gd name="adj" fmla="val 335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4" descr="2835828_962098"/>
          <p:cNvPicPr/>
          <p:nvPr/>
        </p:nvPicPr>
        <p:blipFill>
          <a:blip r:embed="rId3"/>
          <a:srcRect l="0" t="7836" r="0" b="0"/>
          <a:stretch/>
        </p:blipFill>
        <p:spPr>
          <a:xfrm>
            <a:off x="5867280" y="2335320"/>
            <a:ext cx="3733920" cy="4406760"/>
          </a:xfrm>
          <a:prstGeom prst="rect">
            <a:avLst/>
          </a:prstGeom>
          <a:ln w="0">
            <a:noFill/>
          </a:ln>
        </p:spPr>
      </p:pic>
      <p:grpSp>
        <p:nvGrpSpPr>
          <p:cNvPr id="241" name="群組 7"/>
          <p:cNvGrpSpPr/>
          <p:nvPr/>
        </p:nvGrpSpPr>
        <p:grpSpPr>
          <a:xfrm>
            <a:off x="861840" y="5805360"/>
            <a:ext cx="1006920" cy="307080"/>
            <a:chOff x="861840" y="5805360"/>
            <a:chExt cx="1006920" cy="307080"/>
          </a:xfrm>
        </p:grpSpPr>
        <p:sp>
          <p:nvSpPr>
            <p:cNvPr id="242" name="矩形 8"/>
            <p:cNvSpPr/>
            <p:nvPr/>
          </p:nvSpPr>
          <p:spPr>
            <a:xfrm>
              <a:off x="861840" y="5805360"/>
              <a:ext cx="100692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文字方塊 1"/>
            <p:cNvSpPr/>
            <p:nvPr/>
          </p:nvSpPr>
          <p:spPr>
            <a:xfrm>
              <a:off x="1046160" y="580536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70c0"/>
                  </a:solidFill>
                  <a:latin typeface="Arial"/>
                </a:rPr>
                <a:t>翻攝自網路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0400" y="3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800000"/>
                </a:solidFill>
                <a:latin typeface="標楷體"/>
                <a:ea typeface="標楷體"/>
              </a:rPr>
              <a:t>需要？想要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708360" y="2330280"/>
            <a:ext cx="1224000" cy="1151280"/>
          </a:xfrm>
          <a:prstGeom prst="plus">
            <a:avLst>
              <a:gd name="adj" fmla="val 335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9" descr="ANd9GcR1xAI6pBGA-60oZJX__r__hHEjypPV3vy-5HrsPChl_4bTIp6e"/>
          <p:cNvPicPr/>
          <p:nvPr/>
        </p:nvPicPr>
        <p:blipFill>
          <a:blip r:embed="rId1"/>
          <a:stretch/>
        </p:blipFill>
        <p:spPr>
          <a:xfrm>
            <a:off x="324000" y="1682640"/>
            <a:ext cx="3095640" cy="2467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ANd9GcT3LHNDIt6kepj7SpbXWzOmfwACWotBUHl4px4TYuHLwnnc_jZn"/>
          <p:cNvPicPr/>
          <p:nvPr/>
        </p:nvPicPr>
        <p:blipFill>
          <a:blip r:embed="rId2"/>
          <a:stretch/>
        </p:blipFill>
        <p:spPr>
          <a:xfrm>
            <a:off x="5292720" y="1682640"/>
            <a:ext cx="3672000" cy="244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ANd9GcR6ZQ_RmlhZmS_1bzn-YfZ-tHJxG_-PbmkF_CXpf_QP3-5JFJgU"/>
          <p:cNvPicPr/>
          <p:nvPr/>
        </p:nvPicPr>
        <p:blipFill>
          <a:blip r:embed="rId3"/>
          <a:stretch/>
        </p:blipFill>
        <p:spPr>
          <a:xfrm>
            <a:off x="468360" y="4508640"/>
            <a:ext cx="2879640" cy="22651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/>
          <p:cNvSpPr/>
          <p:nvPr/>
        </p:nvSpPr>
        <p:spPr>
          <a:xfrm>
            <a:off x="3708360" y="4991040"/>
            <a:ext cx="1224000" cy="1150920"/>
          </a:xfrm>
          <a:prstGeom prst="plus">
            <a:avLst>
              <a:gd name="adj" fmla="val 335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6" descr="ANd9GcSlpAhH7_AP75zJ7HbcBjWolne1BuMcrLex3WrYT_hONrUtVZGQKQ"/>
          <p:cNvPicPr/>
          <p:nvPr/>
        </p:nvPicPr>
        <p:blipFill>
          <a:blip r:embed="rId4"/>
          <a:stretch/>
        </p:blipFill>
        <p:spPr>
          <a:xfrm>
            <a:off x="5292720" y="4508640"/>
            <a:ext cx="3527280" cy="2347920"/>
          </a:xfrm>
          <a:prstGeom prst="rect">
            <a:avLst/>
          </a:prstGeom>
          <a:ln w="0">
            <a:noFill/>
          </a:ln>
        </p:spPr>
      </p:pic>
      <p:grpSp>
        <p:nvGrpSpPr>
          <p:cNvPr id="252" name="群組 9"/>
          <p:cNvGrpSpPr/>
          <p:nvPr/>
        </p:nvGrpSpPr>
        <p:grpSpPr>
          <a:xfrm>
            <a:off x="395280" y="6453360"/>
            <a:ext cx="1006560" cy="307080"/>
            <a:chOff x="395280" y="6453360"/>
            <a:chExt cx="1006560" cy="307080"/>
          </a:xfrm>
        </p:grpSpPr>
        <p:sp>
          <p:nvSpPr>
            <p:cNvPr id="253" name="矩形 10"/>
            <p:cNvSpPr/>
            <p:nvPr/>
          </p:nvSpPr>
          <p:spPr>
            <a:xfrm>
              <a:off x="395280" y="6453360"/>
              <a:ext cx="100656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文字方塊 1"/>
            <p:cNvSpPr/>
            <p:nvPr/>
          </p:nvSpPr>
          <p:spPr>
            <a:xfrm>
              <a:off x="579240" y="645336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70c0"/>
                  </a:solidFill>
                  <a:latin typeface="Arial"/>
                </a:rPr>
                <a:t>翻攝自網路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3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800000"/>
                </a:solidFill>
                <a:latin typeface="標楷體"/>
                <a:ea typeface="標楷體"/>
              </a:rPr>
              <a:t>需要？想要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可知道您的想方便，貪快速，帶給自己健康與地球生息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多大的危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ANd9GcRCJMu98LWe0h4sq4Zb7AuiHekP_-FzcY9LGd3cxK9BtNhWpXKAOA"/>
          <p:cNvPicPr/>
          <p:nvPr/>
        </p:nvPicPr>
        <p:blipFill>
          <a:blip r:embed="rId1"/>
          <a:srcRect l="0" t="0" r="4837" b="0"/>
          <a:stretch/>
        </p:blipFill>
        <p:spPr>
          <a:xfrm>
            <a:off x="0" y="1700280"/>
            <a:ext cx="2843280" cy="2095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ANd9GcT9x4VJYSI4lcGWX1CPjYBNAixtaZMkkUfgeAaIZLRBzQt9E22wNQ"/>
          <p:cNvPicPr/>
          <p:nvPr/>
        </p:nvPicPr>
        <p:blipFill>
          <a:blip r:embed="rId2"/>
          <a:srcRect l="0" t="14877" r="0" b="13892"/>
          <a:stretch/>
        </p:blipFill>
        <p:spPr>
          <a:xfrm>
            <a:off x="826920" y="3645000"/>
            <a:ext cx="3456000" cy="1727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3708360" y="2133720"/>
            <a:ext cx="16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800000"/>
                </a:solidFill>
                <a:latin typeface="Arial"/>
                <a:ea typeface="標楷體"/>
              </a:rPr>
              <a:t>還是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8" descr="ANd9GcT_Arn3P302wz-q-2kf_lrvYk0BVB6LbUgagvRpCUY5Cpb-Wmbh"/>
          <p:cNvPicPr/>
          <p:nvPr/>
        </p:nvPicPr>
        <p:blipFill>
          <a:blip r:embed="rId3"/>
          <a:srcRect l="5083" t="7691" r="5140" b="17933"/>
          <a:stretch/>
        </p:blipFill>
        <p:spPr>
          <a:xfrm>
            <a:off x="5076720" y="1700280"/>
            <a:ext cx="3311640" cy="2744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ANd9GcSsx2xJfmncqWGXW-Cavr7Kg9GjZDlLsiHw_rMBtohtSlP5GN4G"/>
          <p:cNvPicPr/>
          <p:nvPr/>
        </p:nvPicPr>
        <p:blipFill>
          <a:blip r:embed="rId4"/>
          <a:stretch/>
        </p:blipFill>
        <p:spPr>
          <a:xfrm>
            <a:off x="6705720" y="357336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90400" y="3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800000"/>
                </a:solidFill>
                <a:latin typeface="標楷體"/>
                <a:ea typeface="標楷體"/>
              </a:rPr>
              <a:t>需要？想要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國際電信聯盟統計：台灣手機的持有率世界第一，平均每人擁有兩支手機。台灣手機的持有者，平均每年會購買一支全新的手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4500720" y="2330280"/>
            <a:ext cx="1223640" cy="1151280"/>
          </a:xfrm>
          <a:prstGeom prst="plus">
            <a:avLst>
              <a:gd name="adj" fmla="val 335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5" descr="ANd9GcS6Kk7UTW7rqo8KBJBb7DS_U5288ij9HJmtkhD0P3wLX67rFF_M4w"/>
          <p:cNvPicPr/>
          <p:nvPr/>
        </p:nvPicPr>
        <p:blipFill>
          <a:blip r:embed="rId1"/>
          <a:stretch/>
        </p:blipFill>
        <p:spPr>
          <a:xfrm>
            <a:off x="5952960" y="1844640"/>
            <a:ext cx="2579760" cy="2808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8" descr="ANd9GcSroha52mwj11VhIl9N4gxyricZq-kOFm347Nz9Pf4QlNJGqNIS"/>
          <p:cNvPicPr/>
          <p:nvPr/>
        </p:nvPicPr>
        <p:blipFill>
          <a:blip r:embed="rId2"/>
          <a:stretch/>
        </p:blipFill>
        <p:spPr>
          <a:xfrm>
            <a:off x="469800" y="1844640"/>
            <a:ext cx="3743280" cy="2803680"/>
          </a:xfrm>
          <a:prstGeom prst="rect">
            <a:avLst/>
          </a:prstGeom>
          <a:ln w="0">
            <a:noFill/>
          </a:ln>
        </p:spPr>
      </p:pic>
      <p:grpSp>
        <p:nvGrpSpPr>
          <p:cNvPr id="267" name="群組 6"/>
          <p:cNvGrpSpPr/>
          <p:nvPr/>
        </p:nvGrpSpPr>
        <p:grpSpPr>
          <a:xfrm>
            <a:off x="441360" y="4203720"/>
            <a:ext cx="1006560" cy="307080"/>
            <a:chOff x="441360" y="4203720"/>
            <a:chExt cx="1006560" cy="307080"/>
          </a:xfrm>
        </p:grpSpPr>
        <p:sp>
          <p:nvSpPr>
            <p:cNvPr id="268" name="矩形 7"/>
            <p:cNvSpPr/>
            <p:nvPr/>
          </p:nvSpPr>
          <p:spPr>
            <a:xfrm>
              <a:off x="441360" y="4203720"/>
              <a:ext cx="100656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文字方塊 1"/>
            <p:cNvSpPr/>
            <p:nvPr/>
          </p:nvSpPr>
          <p:spPr>
            <a:xfrm>
              <a:off x="625320" y="420372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70c0"/>
                  </a:solidFill>
                  <a:latin typeface="Arial"/>
                </a:rPr>
                <a:t>翻攝自網路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800000"/>
                </a:solidFill>
                <a:latin typeface="標楷體"/>
                <a:ea typeface="標楷體"/>
              </a:rPr>
              <a:t>生活哲學─需要與想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需要是一種必要，比方說，茶米油鹽醬醋茶，不吃會餓，不喝會渴，與健康有關的全算在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149800" y="6237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游乾桂╱作家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800000"/>
                </a:solidFill>
                <a:latin typeface="標楷體"/>
                <a:ea typeface="標楷體"/>
              </a:rPr>
              <a:t>生活哲學─需要與想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想要的則是欲望了，沒有必要卻硬要，比方說，已經有了五雙鞋子，但是一經流行，再買一雙，其餘幾雙束之高閣，這就形同浪費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149800" y="6237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游乾桂╱作家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-719280" y="875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矩形 2"/>
          <p:cNvSpPr/>
          <p:nvPr/>
        </p:nvSpPr>
        <p:spPr>
          <a:xfrm>
            <a:off x="2268360" y="5911920"/>
            <a:ext cx="6875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影帶播出：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1"/>
              </a:rPr>
              <a:t>連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03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大愛新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粒米滴水皆珍貴 飲食八分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矩形 9"/>
          <p:cNvSpPr/>
          <p:nvPr/>
        </p:nvSpPr>
        <p:spPr>
          <a:xfrm>
            <a:off x="611280" y="31752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66"/>
                </a:solidFill>
                <a:latin typeface="標楷體"/>
                <a:ea typeface="標楷體"/>
              </a:rPr>
              <a:t>人的一生，需要真的不多，但想要的老是太多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-719280" y="875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539640" y="1628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回歸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克己克勤克儉克難</a:t>
            </a: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的精神，減少資源的浪費，克制欲念由個人及家庭做起，節省水、電、瓦斯及零廚餘等目標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3995640" y="6093000"/>
            <a:ext cx="46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1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「菩提心要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322200" y="41400"/>
            <a:ext cx="4465440" cy="1371600"/>
            <a:chOff x="322200" y="41400"/>
            <a:chExt cx="4465440" cy="1371600"/>
          </a:xfrm>
        </p:grpSpPr>
        <p:sp>
          <p:nvSpPr>
            <p:cNvPr id="283" name="Oval 8"/>
            <p:cNvSpPr/>
            <p:nvPr/>
          </p:nvSpPr>
          <p:spPr>
            <a:xfrm>
              <a:off x="322200" y="98280"/>
              <a:ext cx="4465440" cy="1009080"/>
            </a:xfrm>
            <a:prstGeom prst="ellipse">
              <a:avLst/>
            </a:prstGeom>
            <a:gradFill rotWithShape="0">
              <a:gsLst>
                <a:gs pos="0">
                  <a:srgbClr val="5f5f9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矩形 2" descr=""/>
            <p:cNvPicPr/>
            <p:nvPr/>
          </p:nvPicPr>
          <p:blipFill>
            <a:blip r:embed="rId1"/>
            <a:stretch/>
          </p:blipFill>
          <p:spPr>
            <a:xfrm>
              <a:off x="523800" y="41400"/>
              <a:ext cx="414504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0:03:53Z</dcterms:created>
  <dc:creator>wilson liu</dc:creator>
  <dc:description/>
  <dc:language>en-US</dc:language>
  <cp:lastModifiedBy>User</cp:lastModifiedBy>
  <dcterms:modified xsi:type="dcterms:W3CDTF">2018-05-14T05:04:11Z</dcterms:modified>
  <cp:revision>669</cp:revision>
  <dc:subject/>
  <dc:title>投影片 1</dc:title>
</cp:coreProperties>
</file>