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4E8-3D2D-4C12-ADB7-E784A83F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A4-BA2E-4DF1-A16C-E4305A9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FB7-9AC9-4E18-A322-1846307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9AF-C72C-4DC1-9BDA-9955F173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AA5-82FE-4436-9629-9B313854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84E-C423-4A3F-9088-F2829F2D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D5D-9161-43CE-8B29-9586E5B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9F8A-8A8C-47BA-9EDF-4772BB3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65DE-232A-45FA-878F-35EE97CE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ED06-3B1A-40DB-9426-C013495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C921-8FB9-4DE8-9B03-BE2DC10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B2A-FC2D-4371-9AA0-51292613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197-68FD-417E-BA6E-6406EDF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17CF-063F-4693-9619-5832F1C7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05EF-36C7-4ED6-8C86-A6A557D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24E0-1EBD-4D2B-834D-E5D5E37D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9342-1860-4E21-8568-D5BD679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0F5C-0676-4C4E-81CC-401EC680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EC21-DD15-441F-9252-B530A3B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665C-CABE-4FD1-94D6-C218167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DCEC-214A-4654-9C39-616DB69D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97C4-86F2-449D-8BC0-6A30886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45F-9F3F-4228-A4FE-0F670E9B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7D5D-1834-4FF3-8B04-186927B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2910-8ED9-45D0-B349-704FD12C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D983-E359-4E7D-A4CD-555E043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3C9D-8416-4244-9B4A-06021F5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3E7B-7C02-4390-83A5-AA3EB5C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D185-F260-4ECB-96F9-D9643AC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D0C3-D35E-4C26-B31A-A0881AC8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F100-527D-4F91-AF9C-4D77A6CD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FD03-2E90-4DF5-B7C5-D2913D7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7B0E-8525-4988-86C0-8B999640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C8F-6437-4DCF-8D77-12FAAEF1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CE53-A85B-4AC8-B384-D3588AC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B2F1-E0BB-4144-9AD2-346B8D1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E33D-B5E5-4117-8BDE-AFB7A903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90CE-F1DB-4B74-BD52-0BE1ECF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D397-ED33-453F-8322-2BA1BA2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8EFE-FF90-477F-81E3-B5E6CC2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A371-E7CF-48CC-BFAA-353E8033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1D96-54A2-4C47-AA0E-52D10609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2552-4B51-495B-B111-E34EB4D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DC9-B9EC-4156-B078-124FB6F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406-CBBA-4744-B574-47F3C5F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997-2737-4026-A413-8E4B22C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8B2-A5E6-4B66-8806-B86D432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A74-E762-4980-9024-F132263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D73B-C555-484A-A137-6EFAF8143DD1}" type="slidenum"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B24-565B-4315-B2F8-C5D4C8492434}" type="slidenum"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815F-451F-4539-8D16-D14334171E28}" type="slidenum">
              <a:rPr b="0" lang="zh-TW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B74C-135C-404C-940D-E2CC61C38288}" type="slidenum">
              <a:rPr b="0" lang="zh-TW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標題 1" descr=""/>
          <p:cNvPicPr/>
          <p:nvPr/>
        </p:nvPicPr>
        <p:blipFill>
          <a:blip r:embed="rId1"/>
          <a:stretch/>
        </p:blipFill>
        <p:spPr>
          <a:xfrm>
            <a:off x="609480" y="1762200"/>
            <a:ext cx="8358480" cy="259704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3" descr=""/>
          <p:cNvPicPr/>
          <p:nvPr/>
        </p:nvPicPr>
        <p:blipFill>
          <a:blip r:embed="rId2"/>
          <a:stretch/>
        </p:blipFill>
        <p:spPr>
          <a:xfrm>
            <a:off x="731880" y="249120"/>
            <a:ext cx="8412120" cy="2024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4584600" y="3463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753000" y="5473800"/>
            <a:ext cx="5391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nstantia"/>
                <a:ea typeface="華康魏碑體"/>
              </a:rPr>
              <a:t>救地球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華康魏碑體"/>
              </a:rPr>
              <a:t>-407-</a:t>
            </a:r>
            <a:r>
              <a:rPr b="1" lang="zh-TW" sz="1800" spc="-1" strike="noStrike">
                <a:solidFill>
                  <a:srgbClr val="000000"/>
                </a:solidFill>
                <a:latin typeface="Constantia"/>
                <a:ea typeface="華康魏碑體"/>
              </a:rPr>
              <a:t>「扭轉乾坤 停止壞劫」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華康魏碑體"/>
              </a:rPr>
              <a:t>.wm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0" y="1752480"/>
            <a:ext cx="91440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400"/>
            </a:br>
            <a:r>
              <a:rPr b="1" lang="zh-TW" sz="1800" spc="-1" strike="noStrike">
                <a:solidFill>
                  <a:srgbClr val="000000"/>
                </a:solidFill>
                <a:latin typeface="Constantia"/>
                <a:ea typeface="華康魏碑體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3"/>
          <a:srcRect l="40258" t="56732" r="46638" b="25172"/>
          <a:stretch/>
        </p:blipFill>
        <p:spPr>
          <a:xfrm>
            <a:off x="900000" y="4138560"/>
            <a:ext cx="30736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2666880" y="1371600"/>
            <a:ext cx="4191120" cy="2743200"/>
            <a:chOff x="2666880" y="1371600"/>
            <a:chExt cx="4191120" cy="2743200"/>
          </a:xfrm>
        </p:grpSpPr>
        <p:sp>
          <p:nvSpPr>
            <p:cNvPr id="238" name="Oval 3"/>
            <p:cNvSpPr/>
            <p:nvPr/>
          </p:nvSpPr>
          <p:spPr>
            <a:xfrm>
              <a:off x="2666880" y="2819520"/>
              <a:ext cx="3962520" cy="12952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239" name="Picture 4" descr="S4"/>
            <p:cNvPicPr/>
            <p:nvPr/>
          </p:nvPicPr>
          <p:blipFill>
            <a:blip r:embed="rId1"/>
            <a:stretch/>
          </p:blipFill>
          <p:spPr>
            <a:xfrm>
              <a:off x="5790960" y="1371600"/>
              <a:ext cx="1067040" cy="23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Rectangle 6" descr=""/>
          <p:cNvPicPr/>
          <p:nvPr/>
        </p:nvPicPr>
        <p:blipFill>
          <a:blip r:embed="rId2"/>
          <a:stretch/>
        </p:blipFill>
        <p:spPr>
          <a:xfrm>
            <a:off x="3548160" y="2736720"/>
            <a:ext cx="2292120" cy="15433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008080" y="4795920"/>
            <a:ext cx="731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VGmdBU"/>
                <a:ea typeface="AVGmdBU"/>
              </a:rPr>
              <a:t>感恩北區志工團隊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VGmdBU"/>
                <a:ea typeface="AVGmdBU"/>
              </a:rPr>
              <a:t>王大英師兄、許榮祥師兄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VGmdBU"/>
                <a:ea typeface="AVGmdBU"/>
              </a:rPr>
              <a:t>古怡青師姊、李玟如師姊、劉秀芬師姊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619308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4617b"/>
                </a:solidFill>
                <a:latin typeface="Calibri"/>
              </a:rPr>
              <a:t>大地的園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文字方塊 10"/>
          <p:cNvSpPr/>
          <p:nvPr/>
        </p:nvSpPr>
        <p:spPr>
          <a:xfrm>
            <a:off x="5694480" y="596916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大地的園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wm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rcRect l="43000" t="43012" r="40086" b="33898"/>
          <a:stretch/>
        </p:blipFill>
        <p:spPr>
          <a:xfrm>
            <a:off x="468360" y="2637000"/>
            <a:ext cx="3429000" cy="2633400"/>
          </a:xfrm>
          <a:prstGeom prst="rect">
            <a:avLst/>
          </a:prstGeom>
          <a:ln w="0">
            <a:noFill/>
          </a:ln>
        </p:spPr>
      </p:pic>
      <p:sp>
        <p:nvSpPr>
          <p:cNvPr id="204" name="矩形 1"/>
          <p:cNvSpPr/>
          <p:nvPr/>
        </p:nvSpPr>
        <p:spPr>
          <a:xfrm>
            <a:off x="4211640" y="2303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天空破了洞</a:t>
            </a:r>
            <a:r>
              <a:rPr b="0" lang="en-US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誰不傷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青山流了淚</a:t>
            </a:r>
            <a:r>
              <a:rPr b="0" lang="en-US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誰不悲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補天的女媧那裡找</a:t>
            </a:r>
            <a:r>
              <a:rPr b="0" lang="en-US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地球的園丁何處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一顆真心一棵樹</a:t>
            </a:r>
            <a:r>
              <a:rPr b="0" lang="en-US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萬顆真心一片林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綠化的手　慈悲的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你我都是</a:t>
            </a:r>
            <a:r>
              <a:rPr b="0" lang="en-US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115964"/>
                </a:solidFill>
                <a:latin typeface="標楷體"/>
                <a:ea typeface="標楷體"/>
              </a:rPr>
              <a:t>大地的園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圖片 1" descr=""/>
          <p:cNvPicPr/>
          <p:nvPr/>
        </p:nvPicPr>
        <p:blipFill>
          <a:blip r:embed="rId1"/>
          <a:stretch/>
        </p:blipFill>
        <p:spPr>
          <a:xfrm>
            <a:off x="-473040" y="0"/>
            <a:ext cx="10783800" cy="718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地球"/>
          <p:cNvPicPr/>
          <p:nvPr/>
        </p:nvPicPr>
        <p:blipFill>
          <a:blip r:embed="rId1"/>
          <a:stretch/>
        </p:blipFill>
        <p:spPr>
          <a:xfrm>
            <a:off x="38160" y="28440"/>
            <a:ext cx="9067680" cy="6801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反省"/>
          <p:cNvPicPr/>
          <p:nvPr/>
        </p:nvPicPr>
        <p:blipFill>
          <a:blip r:embed="rId2"/>
          <a:stretch/>
        </p:blipFill>
        <p:spPr>
          <a:xfrm>
            <a:off x="-15840" y="0"/>
            <a:ext cx="9459720" cy="70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420840" y="1170000"/>
            <a:ext cx="786924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慈濟（背景黑，左下屋角）"/>
          <p:cNvPicPr/>
          <p:nvPr/>
        </p:nvPicPr>
        <p:blipFill>
          <a:blip r:embed="rId1"/>
          <a:stretch/>
        </p:blipFill>
        <p:spPr>
          <a:xfrm>
            <a:off x="-27792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211" name="標題 4" descr=""/>
          <p:cNvPicPr/>
          <p:nvPr/>
        </p:nvPicPr>
        <p:blipFill>
          <a:blip r:embed="rId2"/>
          <a:stretch/>
        </p:blipFill>
        <p:spPr>
          <a:xfrm>
            <a:off x="390600" y="285840"/>
            <a:ext cx="8302680" cy="1536480"/>
          </a:xfrm>
          <a:prstGeom prst="rect">
            <a:avLst/>
          </a:prstGeom>
          <a:ln w="0">
            <a:noFill/>
          </a:ln>
        </p:spPr>
      </p:pic>
      <p:sp>
        <p:nvSpPr>
          <p:cNvPr id="212" name="文字方塊 4"/>
          <p:cNvSpPr/>
          <p:nvPr/>
        </p:nvSpPr>
        <p:spPr>
          <a:xfrm>
            <a:off x="561960" y="1716120"/>
            <a:ext cx="44449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竭</a:t>
            </a:r>
            <a:r>
              <a:rPr b="1" lang="zh-TW" sz="4400" spc="-1" strike="noStrike">
                <a:solidFill>
                  <a:srgbClr val="ffc000"/>
                </a:solidFill>
                <a:latin typeface="標楷體"/>
                <a:ea typeface="標楷體"/>
              </a:rPr>
              <a:t>貪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婪欲望水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消</a:t>
            </a:r>
            <a:r>
              <a:rPr b="1" lang="zh-TW" sz="4400" spc="-1" strike="noStrike">
                <a:solidFill>
                  <a:srgbClr val="ffc000"/>
                </a:solidFill>
                <a:latin typeface="標楷體"/>
                <a:ea typeface="標楷體"/>
              </a:rPr>
              <a:t>瞋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恚躁動火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破愚</a:t>
            </a:r>
            <a:r>
              <a:rPr b="1" lang="zh-TW" sz="4400" spc="-1" strike="noStrike">
                <a:solidFill>
                  <a:srgbClr val="ffc000"/>
                </a:solidFill>
                <a:latin typeface="標楷體"/>
                <a:ea typeface="標楷體"/>
              </a:rPr>
              <a:t>痴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諸迷闇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折貢高驕</a:t>
            </a:r>
            <a:r>
              <a:rPr b="1" lang="zh-TW" sz="4400" spc="-1" strike="noStrike">
                <a:solidFill>
                  <a:srgbClr val="ffc000"/>
                </a:solidFill>
                <a:latin typeface="標楷體"/>
                <a:ea typeface="標楷體"/>
              </a:rPr>
              <a:t>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幢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拔猜</a:t>
            </a:r>
            <a:r>
              <a:rPr b="1" lang="zh-TW" sz="4400" spc="-1" strike="noStrike">
                <a:solidFill>
                  <a:srgbClr val="ffc000"/>
                </a:solidFill>
                <a:latin typeface="標楷體"/>
                <a:ea typeface="標楷體"/>
              </a:rPr>
              <a:t>疑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不信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文字方塊 5"/>
          <p:cNvSpPr/>
          <p:nvPr/>
        </p:nvSpPr>
        <p:spPr>
          <a:xfrm>
            <a:off x="4976640" y="2678040"/>
            <a:ext cx="40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愛潤大地灑人間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文字方塊 6"/>
          <p:cNvSpPr/>
          <p:nvPr/>
        </p:nvSpPr>
        <p:spPr>
          <a:xfrm>
            <a:off x="4976640" y="3716280"/>
            <a:ext cx="45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多聞正法行眾善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文字方塊 7"/>
          <p:cNvSpPr/>
          <p:nvPr/>
        </p:nvSpPr>
        <p:spPr>
          <a:xfrm>
            <a:off x="5024520" y="4687920"/>
            <a:ext cx="45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持戒忍辱恭自謙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文字方塊 8"/>
          <p:cNvSpPr/>
          <p:nvPr/>
        </p:nvSpPr>
        <p:spPr>
          <a:xfrm>
            <a:off x="5024520" y="5635800"/>
            <a:ext cx="47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堅信因果不欺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文字方塊 9"/>
          <p:cNvSpPr/>
          <p:nvPr/>
        </p:nvSpPr>
        <p:spPr>
          <a:xfrm>
            <a:off x="4937040" y="1650960"/>
            <a:ext cx="46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善布種子去慳貪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改往並修來(前段).mp3" descr=""/>
          <p:cNvPicPr/>
          <p:nvPr/>
        </p:nvPicPr>
        <p:blipFill>
          <a:blip r:embed="rId3"/>
          <a:stretch/>
        </p:blipFill>
        <p:spPr>
          <a:xfrm>
            <a:off x="8377200" y="634356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9" name="標題 3"/>
          <p:cNvSpPr/>
          <p:nvPr/>
        </p:nvSpPr>
        <p:spPr>
          <a:xfrm>
            <a:off x="609480" y="8571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8479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3" descr=""/>
          <p:cNvPicPr/>
          <p:nvPr/>
        </p:nvPicPr>
        <p:blipFill>
          <a:blip r:embed="rId1"/>
          <a:stretch/>
        </p:blipFill>
        <p:spPr>
          <a:xfrm>
            <a:off x="469800" y="1920960"/>
            <a:ext cx="8008920" cy="2608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4527720" y="34639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3" descr=""/>
          <p:cNvPicPr/>
          <p:nvPr/>
        </p:nvPicPr>
        <p:blipFill>
          <a:blip r:embed="rId1"/>
          <a:stretch/>
        </p:blipFill>
        <p:spPr>
          <a:xfrm>
            <a:off x="639720" y="262080"/>
            <a:ext cx="7772400" cy="1358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41520" y="16286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飲食習慣：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點餐適量、惜福，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減少「吃到飽」飲食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527720" y="34639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文字方塊 5"/>
          <p:cNvSpPr/>
          <p:nvPr/>
        </p:nvSpPr>
        <p:spPr>
          <a:xfrm>
            <a:off x="6792840" y="6410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照片翻拍自網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圖片 13" descr=""/>
          <p:cNvPicPr/>
          <p:nvPr/>
        </p:nvPicPr>
        <p:blipFill>
          <a:blip r:embed="rId2"/>
          <a:srcRect l="0" t="0" r="0" b="22109"/>
          <a:stretch/>
        </p:blipFill>
        <p:spPr>
          <a:xfrm>
            <a:off x="755640" y="422604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227" name="圖片 14" descr=""/>
          <p:cNvPicPr/>
          <p:nvPr/>
        </p:nvPicPr>
        <p:blipFill>
          <a:blip r:embed="rId3"/>
          <a:stretch/>
        </p:blipFill>
        <p:spPr>
          <a:xfrm>
            <a:off x="2554200" y="4591080"/>
            <a:ext cx="2853000" cy="1913040"/>
          </a:xfrm>
          <a:prstGeom prst="rect">
            <a:avLst/>
          </a:prstGeom>
          <a:ln w="0">
            <a:noFill/>
          </a:ln>
        </p:spPr>
      </p:pic>
      <p:pic>
        <p:nvPicPr>
          <p:cNvPr id="228" name="圖片 7" descr=""/>
          <p:cNvPicPr/>
          <p:nvPr/>
        </p:nvPicPr>
        <p:blipFill>
          <a:blip r:embed="rId4"/>
          <a:stretch/>
        </p:blipFill>
        <p:spPr>
          <a:xfrm>
            <a:off x="6222960" y="930240"/>
            <a:ext cx="2638440" cy="253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sony\AppData\Local\Microsoft\Windows\Temporary Internet Files\Content.IE5\CFJ266FK\MC900303675[1].wmf"/>
          <p:cNvPicPr/>
          <p:nvPr/>
        </p:nvPicPr>
        <p:blipFill>
          <a:blip r:embed="rId5"/>
          <a:stretch/>
        </p:blipFill>
        <p:spPr>
          <a:xfrm>
            <a:off x="1425600" y="4170240"/>
            <a:ext cx="2736720" cy="27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3" descr=""/>
          <p:cNvPicPr/>
          <p:nvPr/>
        </p:nvPicPr>
        <p:blipFill>
          <a:blip r:embed="rId1"/>
          <a:stretch/>
        </p:blipFill>
        <p:spPr>
          <a:xfrm>
            <a:off x="822240" y="512640"/>
            <a:ext cx="7772400" cy="20224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29920" y="2704680"/>
            <a:ext cx="605772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轉水龍頭</a:t>
            </a:r>
            <a:r>
              <a:rPr b="1" lang="zh-TW" sz="4800" spc="-1" strike="noStrike">
                <a:solidFill>
                  <a:srgbClr val="c9fafc"/>
                </a:solidFill>
                <a:latin typeface="標楷體"/>
                <a:ea typeface="標楷體"/>
              </a:rPr>
              <a:t>（由小到大）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27720" y="34639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468360" y="4675320"/>
            <a:ext cx="660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洗手後手帕擦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3" descr="C:\Users\sony\AppData\Local\Microsoft\Windows\Temporary Internet Files\Content.IE5\GPE0AJWX\MC900371340[1].wmf"/>
          <p:cNvPicPr/>
          <p:nvPr/>
        </p:nvPicPr>
        <p:blipFill>
          <a:blip r:embed="rId2"/>
          <a:stretch/>
        </p:blipFill>
        <p:spPr>
          <a:xfrm>
            <a:off x="6443640" y="2286000"/>
            <a:ext cx="181296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圖片 4" descr=""/>
          <p:cNvPicPr/>
          <p:nvPr/>
        </p:nvPicPr>
        <p:blipFill>
          <a:blip r:embed="rId3"/>
          <a:stretch/>
        </p:blipFill>
        <p:spPr>
          <a:xfrm>
            <a:off x="4968720" y="4005360"/>
            <a:ext cx="2949840" cy="2728800"/>
          </a:xfrm>
          <a:prstGeom prst="rect">
            <a:avLst/>
          </a:prstGeom>
          <a:ln w="0">
            <a:noFill/>
          </a:ln>
        </p:spPr>
      </p:pic>
      <p:sp>
        <p:nvSpPr>
          <p:cNvPr id="236" name="文字方塊 10"/>
          <p:cNvSpPr/>
          <p:nvPr/>
        </p:nvSpPr>
        <p:spPr>
          <a:xfrm>
            <a:off x="6792840" y="6410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照片翻拍自網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6:30:56Z</dcterms:created>
  <dc:creator>sony</dc:creator>
  <dc:description/>
  <dc:language>en-US</dc:language>
  <cp:lastModifiedBy>User</cp:lastModifiedBy>
  <dcterms:modified xsi:type="dcterms:W3CDTF">2018-05-14T04:56:22Z</dcterms:modified>
  <cp:revision>14</cp:revision>
  <dc:subject/>
  <dc:title>2007年剩七年救地球 今年2012，剩幾年？</dc:title>
</cp:coreProperties>
</file>