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360" cy="34293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標楷體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hape 9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hape 9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175D-83AC-43D9-9134-A776745CE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5872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E3B3-C589-458B-B87F-F50E9444A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5872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5872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5BE8-8C69-48BB-B601-10051501D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5872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5872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5872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78CF-0E25-4DE5-BAE6-AF8A1A4C2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5933C-1A2C-4A8F-8F70-6F5BD3392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B6962-9A20-4794-A2DF-B7FDEEFAD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840BF-0D9C-48B0-BDB5-15E43C6FE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96E62-7AAC-4345-B747-18BD5CB77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8E984-CB2F-46C3-8A0D-A73B14627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43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8A23F-2390-4341-8B7F-CE7D4E00A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15872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7772A-AB46-433E-9747-CA972022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312E-E73A-40C0-B52C-A7ECE600A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15872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2CA79-F251-455F-9213-4A691373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15872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809CD-9104-4269-9A97-A7D13A1A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15872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BFC30-2A54-429F-B28C-96E01E43D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5872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15872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2A73A-A669-48B5-9F73-0193F1F99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15872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15872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15872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341E1-D4E5-499C-B659-74FFABE31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CEDB5-008F-4DA4-BD74-A80542FC2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DC1EC-0C6B-4CC3-925C-2FDA8F278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24DDD-5E8D-4B23-939A-A3991F212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761B8-E2C0-4FEC-883E-034FDA85A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8930E-9217-476D-AA87-31B7CD972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ECD6-2857-48EE-B05E-E2BE4F56D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43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AFB72-F19D-41DC-8050-15DA78993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15872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81526-ADAE-4DAF-8775-98A99AA7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415872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0FB66-B059-493A-B4CD-142E88C5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5872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A3D4E-1D65-4408-9EE3-3DBCB93F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415872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FF282-F8E7-4701-9421-CB51B832F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5872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415872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676EB-6F8D-43C6-917C-286C7B037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415872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415872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415872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2766B-A601-49D5-9FC2-F94DCE53F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4FBC-C12F-49CE-AED9-09837DF3A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8E26-945B-46C4-A30C-EA18F13C0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3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5AD7-8F70-4452-95F8-161048064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5872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DF29-9F76-4A63-BCE6-30941B9F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5872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A8DE-2B50-49BF-9E0E-5AF1E662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5872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74BD-1464-4AD9-B32D-42BCF448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標楷體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文字方塊 6"/>
          <p:cNvSpPr/>
          <p:nvPr/>
        </p:nvSpPr>
        <p:spPr>
          <a:xfrm>
            <a:off x="8604360" y="6649920"/>
            <a:ext cx="539640" cy="206640"/>
          </a:xfrm>
          <a:prstGeom prst="rect">
            <a:avLst/>
          </a:prstGeom>
          <a:solidFill>
            <a:srgbClr val="2c62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文字方塊 6"/>
          <p:cNvSpPr/>
          <p:nvPr/>
        </p:nvSpPr>
        <p:spPr>
          <a:xfrm>
            <a:off x="8604360" y="6649920"/>
            <a:ext cx="539640" cy="206640"/>
          </a:xfrm>
          <a:prstGeom prst="rect">
            <a:avLst/>
          </a:prstGeom>
          <a:solidFill>
            <a:srgbClr val="2c62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字方塊 7"/>
          <p:cNvSpPr/>
          <p:nvPr/>
        </p:nvSpPr>
        <p:spPr>
          <a:xfrm>
            <a:off x="8459640" y="4746600"/>
            <a:ext cx="684360" cy="206280"/>
          </a:xfrm>
          <a:prstGeom prst="rect">
            <a:avLst/>
          </a:prstGeom>
          <a:solidFill>
            <a:srgbClr val="2c62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標楷體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文字方塊 6"/>
          <p:cNvSpPr/>
          <p:nvPr/>
        </p:nvSpPr>
        <p:spPr>
          <a:xfrm>
            <a:off x="8604360" y="6649920"/>
            <a:ext cx="539640" cy="206640"/>
          </a:xfrm>
          <a:prstGeom prst="rect">
            <a:avLst/>
          </a:prstGeom>
          <a:solidFill>
            <a:srgbClr val="2c62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字方塊 6"/>
          <p:cNvSpPr/>
          <p:nvPr/>
        </p:nvSpPr>
        <p:spPr>
          <a:xfrm>
            <a:off x="8604360" y="6649920"/>
            <a:ext cx="539640" cy="206640"/>
          </a:xfrm>
          <a:prstGeom prst="rect">
            <a:avLst/>
          </a:prstGeom>
          <a:solidFill>
            <a:srgbClr val="2c62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標楷體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4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jpeg"/><Relationship Id="rId3" Type="http://schemas.openxmlformats.org/officeDocument/2006/relationships/slide" Target="slide3.xm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3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5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靜思電子書</a:t>
            </a:r>
            <a:br>
              <a:rPr sz="6000"/>
            </a:br>
            <a:r>
              <a:rPr b="1" lang="zh-TW" sz="4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第一代介面</a:t>
            </a:r>
            <a:br>
              <a:rPr sz="4800"/>
            </a:br>
            <a:r>
              <a:rPr b="1" lang="en-US" sz="6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【</a:t>
            </a:r>
            <a:r>
              <a:rPr b="1" lang="zh-TW" sz="6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進階學習</a:t>
            </a:r>
            <a:r>
              <a:rPr b="1" lang="en-US" sz="6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】</a:t>
            </a:r>
            <a:endParaRPr b="0" lang="en-US" sz="6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803840" y="5013000"/>
            <a:ext cx="4232160" cy="554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 algn="r"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標楷體"/>
              </a:rPr>
              <a:t>2014/04/22</a:t>
            </a:r>
            <a:endParaRPr b="0" lang="en-US" sz="2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37" name="Shape 86"/>
          <p:cNvSpPr/>
          <p:nvPr/>
        </p:nvSpPr>
        <p:spPr>
          <a:xfrm>
            <a:off x="3127320" y="6380280"/>
            <a:ext cx="16020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rmAutofit fontScale="38000"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999999"/>
                </a:solidFill>
                <a:latin typeface="Arial"/>
                <a:ea typeface="新細明體"/>
              </a:rPr>
              <a:t>http://goo.gl/4lE7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矩形 67"/>
          <p:cNvSpPr/>
          <p:nvPr/>
        </p:nvSpPr>
        <p:spPr>
          <a:xfrm>
            <a:off x="4427640" y="909720"/>
            <a:ext cx="43434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群組 60"/>
          <p:cNvGrpSpPr/>
          <p:nvPr/>
        </p:nvGrpSpPr>
        <p:grpSpPr>
          <a:xfrm>
            <a:off x="611280" y="692280"/>
            <a:ext cx="3456000" cy="868320"/>
            <a:chOff x="611280" y="692280"/>
            <a:chExt cx="3456000" cy="868320"/>
          </a:xfrm>
        </p:grpSpPr>
        <p:sp>
          <p:nvSpPr>
            <p:cNvPr id="199" name="圓角化同側角落矩形 65"/>
            <p:cNvSpPr/>
            <p:nvPr/>
          </p:nvSpPr>
          <p:spPr>
            <a:xfrm>
              <a:off x="611280" y="692280"/>
              <a:ext cx="3456000" cy="868320"/>
            </a:xfrm>
            <a:custGeom>
              <a:avLst/>
              <a:gdLst/>
              <a:ahLst/>
              <a:rect l="l" t="t" r="r" b="b"/>
              <a:pathLst>
                <a:path w="2880320" h="651686">
                  <a:moveTo>
                    <a:pt x="108636" y="0"/>
                  </a:moveTo>
                  <a:lnTo>
                    <a:pt x="2771684" y="0"/>
                  </a:lnTo>
                  <a:cubicBezTo>
                    <a:pt x="2831682" y="0"/>
                    <a:pt x="2880320" y="48638"/>
                    <a:pt x="2880320" y="108636"/>
                  </a:cubicBezTo>
                  <a:lnTo>
                    <a:pt x="2880320" y="651686"/>
                  </a:lnTo>
                  <a:lnTo>
                    <a:pt x="2880320" y="651686"/>
                  </a:lnTo>
                  <a:lnTo>
                    <a:pt x="0" y="651686"/>
                  </a:lnTo>
                  <a:lnTo>
                    <a:pt x="0" y="651686"/>
                  </a:lnTo>
                  <a:lnTo>
                    <a:pt x="0" y="108636"/>
                  </a:lnTo>
                  <a:cubicBezTo>
                    <a:pt x="0" y="48638"/>
                    <a:pt x="48638" y="0"/>
                    <a:pt x="108636" y="0"/>
                  </a:cubicBezTo>
                  <a:close/>
                </a:path>
              </a:pathLst>
            </a:custGeom>
            <a:solidFill>
              <a:srgbClr val="1b5222"/>
            </a:solidFill>
            <a:ln w="2556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圓角化同側角落矩形 6"/>
            <p:cNvSpPr/>
            <p:nvPr/>
          </p:nvSpPr>
          <p:spPr>
            <a:xfrm>
              <a:off x="649080" y="735120"/>
              <a:ext cx="3380040" cy="825480"/>
            </a:xfrm>
            <a:prstGeom prst="rect">
              <a:avLst/>
            </a:prstGeom>
            <a:solidFill>
              <a:srgbClr val="582a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749"/>
                </a:spcAft>
                <a:tabLst>
                  <a:tab algn="l" pos="0"/>
                  <a:tab algn="l" pos="1778040"/>
                  <a:tab algn="l" pos="3556080"/>
                  <a:tab algn="l" pos="5334120"/>
                  <a:tab algn="l" pos="7112160"/>
                  <a:tab algn="l" pos="8889840"/>
                  <a:tab algn="l" pos="1066788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微軟正黑體"/>
                  <a:ea typeface="微軟正黑體"/>
                </a:rPr>
                <a:t>6.</a:t>
              </a:r>
              <a:r>
                <a:rPr b="1" lang="zh-TW" sz="4000" spc="-1" strike="noStrike">
                  <a:solidFill>
                    <a:srgbClr val="ffffff"/>
                  </a:solidFill>
                  <a:latin typeface="微軟正黑體"/>
                  <a:ea typeface="微軟正黑體"/>
                </a:rPr>
                <a:t>請購有價書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矩形 63"/>
          <p:cNvSpPr/>
          <p:nvPr/>
        </p:nvSpPr>
        <p:spPr>
          <a:xfrm>
            <a:off x="611280" y="1569960"/>
            <a:ext cx="821196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直線接點 62"/>
          <p:cNvSpPr/>
          <p:nvPr/>
        </p:nvSpPr>
        <p:spPr>
          <a:xfrm flipV="1">
            <a:off x="755640" y="1569600"/>
            <a:ext cx="7929720" cy="1800"/>
          </a:xfrm>
          <a:prstGeom prst="line">
            <a:avLst/>
          </a:prstGeom>
          <a:ln w="25560">
            <a:solidFill>
              <a:srgbClr val="3d6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3" descr="E:\Maxine\圖片\教學影片-請點我.jpg"/>
          <p:cNvPicPr/>
          <p:nvPr/>
        </p:nvPicPr>
        <p:blipFill>
          <a:blip r:embed="rId1"/>
          <a:stretch/>
        </p:blipFill>
        <p:spPr>
          <a:xfrm>
            <a:off x="7721640" y="0"/>
            <a:ext cx="1146240" cy="1490760"/>
          </a:xfrm>
          <a:prstGeom prst="rect">
            <a:avLst/>
          </a:prstGeom>
          <a:ln w="0">
            <a:noFill/>
          </a:ln>
        </p:spPr>
      </p:pic>
      <p:sp>
        <p:nvSpPr>
          <p:cNvPr id="204" name="流程圖: 延遲 16">
            <a:hlinkClick r:id="rId2" action="ppaction://hlinksldjump"/>
          </p:cNvPr>
          <p:cNvSpPr/>
          <p:nvPr/>
        </p:nvSpPr>
        <p:spPr>
          <a:xfrm>
            <a:off x="4716360" y="5329080"/>
            <a:ext cx="2016360" cy="792360"/>
          </a:xfrm>
          <a:prstGeom prst="flowChartDelay">
            <a:avLst/>
          </a:prstGeom>
          <a:gradFill rotWithShape="0">
            <a:gsLst>
              <a:gs pos="0">
                <a:srgbClr val="d1403c"/>
              </a:gs>
              <a:gs pos="100000">
                <a:srgbClr val="ff9a99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回目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10"/>
          <p:cNvSpPr/>
          <p:nvPr/>
        </p:nvSpPr>
        <p:spPr>
          <a:xfrm>
            <a:off x="322200" y="2023920"/>
            <a:ext cx="41054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lvl="1" marL="457200" indent="-45720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可透過網路的慈濟電子書城，請購有價書籍，如：衲履足跡、法譬如水全書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1-6電子書城購書.mp4" descr=""/>
          <p:cNvPicPr/>
          <p:nvPr/>
        </p:nvPicPr>
        <p:blipFill>
          <a:blip r:embed="rId3"/>
          <a:stretch/>
        </p:blipFill>
        <p:spPr>
          <a:xfrm>
            <a:off x="4708440" y="1989000"/>
            <a:ext cx="41277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矩形 32"/>
          <p:cNvSpPr/>
          <p:nvPr/>
        </p:nvSpPr>
        <p:spPr>
          <a:xfrm>
            <a:off x="3597120" y="888840"/>
            <a:ext cx="51739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群組 25"/>
          <p:cNvGrpSpPr/>
          <p:nvPr/>
        </p:nvGrpSpPr>
        <p:grpSpPr>
          <a:xfrm>
            <a:off x="611280" y="671400"/>
            <a:ext cx="2832120" cy="866880"/>
            <a:chOff x="611280" y="671400"/>
            <a:chExt cx="2832120" cy="866880"/>
          </a:xfrm>
        </p:grpSpPr>
        <p:sp>
          <p:nvSpPr>
            <p:cNvPr id="209" name="圓角化同側角落矩形 30"/>
            <p:cNvSpPr/>
            <p:nvPr/>
          </p:nvSpPr>
          <p:spPr>
            <a:xfrm>
              <a:off x="611280" y="671400"/>
              <a:ext cx="2832120" cy="866880"/>
            </a:xfrm>
            <a:custGeom>
              <a:avLst/>
              <a:gdLst/>
              <a:ahLst/>
              <a:rect l="l" t="t" r="r" b="b"/>
              <a:pathLst>
                <a:path w="2880320" h="651686">
                  <a:moveTo>
                    <a:pt x="108636" y="0"/>
                  </a:moveTo>
                  <a:lnTo>
                    <a:pt x="2771684" y="0"/>
                  </a:lnTo>
                  <a:cubicBezTo>
                    <a:pt x="2831682" y="0"/>
                    <a:pt x="2880320" y="48638"/>
                    <a:pt x="2880320" y="108636"/>
                  </a:cubicBezTo>
                  <a:lnTo>
                    <a:pt x="2880320" y="651686"/>
                  </a:lnTo>
                  <a:lnTo>
                    <a:pt x="2880320" y="651686"/>
                  </a:lnTo>
                  <a:lnTo>
                    <a:pt x="0" y="651686"/>
                  </a:lnTo>
                  <a:lnTo>
                    <a:pt x="0" y="651686"/>
                  </a:lnTo>
                  <a:lnTo>
                    <a:pt x="0" y="108636"/>
                  </a:lnTo>
                  <a:cubicBezTo>
                    <a:pt x="0" y="48638"/>
                    <a:pt x="48638" y="0"/>
                    <a:pt x="108636" y="0"/>
                  </a:cubicBezTo>
                  <a:close/>
                </a:path>
              </a:pathLst>
            </a:custGeom>
            <a:solidFill>
              <a:srgbClr val="1b5222"/>
            </a:solidFill>
            <a:ln w="2556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圓角化同側角落矩形 6"/>
            <p:cNvSpPr/>
            <p:nvPr/>
          </p:nvSpPr>
          <p:spPr>
            <a:xfrm>
              <a:off x="642960" y="714240"/>
              <a:ext cx="2768760" cy="824040"/>
            </a:xfrm>
            <a:prstGeom prst="rect">
              <a:avLst/>
            </a:prstGeom>
            <a:solidFill>
              <a:srgbClr val="582a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749"/>
                </a:spcAft>
                <a:tabLst>
                  <a:tab algn="l" pos="0"/>
                  <a:tab algn="l" pos="1778040"/>
                  <a:tab algn="l" pos="3556080"/>
                  <a:tab algn="l" pos="5334120"/>
                  <a:tab algn="l" pos="7112160"/>
                  <a:tab algn="l" pos="8889840"/>
                  <a:tab algn="l" pos="1066788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微軟正黑體"/>
                  <a:ea typeface="微軟正黑體"/>
                </a:rPr>
                <a:t>7.</a:t>
              </a:r>
              <a:r>
                <a:rPr b="1" lang="zh-TW" sz="4000" spc="-1" strike="noStrike">
                  <a:solidFill>
                    <a:srgbClr val="ffffff"/>
                  </a:solidFill>
                  <a:latin typeface="微軟正黑體"/>
                  <a:ea typeface="微軟正黑體"/>
                </a:rPr>
                <a:t>面板校正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矩形 28"/>
          <p:cNvSpPr/>
          <p:nvPr/>
        </p:nvSpPr>
        <p:spPr>
          <a:xfrm>
            <a:off x="611280" y="1549440"/>
            <a:ext cx="8211960" cy="13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直線接點 27"/>
          <p:cNvSpPr/>
          <p:nvPr/>
        </p:nvSpPr>
        <p:spPr>
          <a:xfrm flipV="1">
            <a:off x="755640" y="1549440"/>
            <a:ext cx="7929720" cy="1440"/>
          </a:xfrm>
          <a:prstGeom prst="line">
            <a:avLst/>
          </a:prstGeom>
          <a:ln w="25560">
            <a:solidFill>
              <a:srgbClr val="3d6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3" descr="E:\Maxine\圖片\教學影片-請點我.jpg"/>
          <p:cNvPicPr/>
          <p:nvPr/>
        </p:nvPicPr>
        <p:blipFill>
          <a:blip r:embed="rId1"/>
          <a:stretch/>
        </p:blipFill>
        <p:spPr>
          <a:xfrm>
            <a:off x="7524720" y="20520"/>
            <a:ext cx="1146240" cy="1492200"/>
          </a:xfrm>
          <a:prstGeom prst="rect">
            <a:avLst/>
          </a:prstGeom>
          <a:ln w="0">
            <a:noFill/>
          </a:ln>
        </p:spPr>
      </p:pic>
      <p:sp>
        <p:nvSpPr>
          <p:cNvPr id="214" name="流程圖: 延遲 15"/>
          <p:cNvSpPr/>
          <p:nvPr/>
        </p:nvSpPr>
        <p:spPr>
          <a:xfrm>
            <a:off x="4716360" y="5329080"/>
            <a:ext cx="2016360" cy="792360"/>
          </a:xfrm>
          <a:prstGeom prst="flowChartDelay">
            <a:avLst/>
          </a:prstGeom>
          <a:gradFill rotWithShape="0">
            <a:gsLst>
              <a:gs pos="0">
                <a:srgbClr val="d1403c"/>
              </a:gs>
              <a:gs pos="100000">
                <a:srgbClr val="ff9a99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回目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1-7面板校正.mp4" descr=""/>
          <p:cNvPicPr/>
          <p:nvPr/>
        </p:nvPicPr>
        <p:blipFill>
          <a:blip r:embed="rId2"/>
          <a:stretch/>
        </p:blipFill>
        <p:spPr>
          <a:xfrm>
            <a:off x="4716360" y="1952640"/>
            <a:ext cx="4175280" cy="3132000"/>
          </a:xfrm>
          <a:prstGeom prst="rect">
            <a:avLst/>
          </a:prstGeom>
          <a:ln w="0">
            <a:noFill/>
          </a:ln>
        </p:spPr>
      </p:pic>
      <p:sp>
        <p:nvSpPr>
          <p:cNvPr id="216" name="矩形 10"/>
          <p:cNvSpPr/>
          <p:nvPr/>
        </p:nvSpPr>
        <p:spPr>
          <a:xfrm>
            <a:off x="322200" y="2023920"/>
            <a:ext cx="41054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lvl="1" marL="457200" indent="-45720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當點選電子書的某些功能選項時，均無反應，此時，即可作面板校正，讓電子書恢復正常功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39" nodeType="clickEffect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2" dur="1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矩形 67"/>
          <p:cNvSpPr/>
          <p:nvPr/>
        </p:nvSpPr>
        <p:spPr>
          <a:xfrm>
            <a:off x="3597120" y="928800"/>
            <a:ext cx="51739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群組 60"/>
          <p:cNvGrpSpPr/>
          <p:nvPr/>
        </p:nvGrpSpPr>
        <p:grpSpPr>
          <a:xfrm>
            <a:off x="611280" y="711360"/>
            <a:ext cx="2832120" cy="868320"/>
            <a:chOff x="611280" y="711360"/>
            <a:chExt cx="2832120" cy="868320"/>
          </a:xfrm>
        </p:grpSpPr>
        <p:sp>
          <p:nvSpPr>
            <p:cNvPr id="219" name="圓角化同側角落矩形 65"/>
            <p:cNvSpPr/>
            <p:nvPr/>
          </p:nvSpPr>
          <p:spPr>
            <a:xfrm>
              <a:off x="611280" y="711360"/>
              <a:ext cx="2832120" cy="868320"/>
            </a:xfrm>
            <a:custGeom>
              <a:avLst/>
              <a:gdLst/>
              <a:ahLst/>
              <a:rect l="l" t="t" r="r" b="b"/>
              <a:pathLst>
                <a:path w="2880320" h="651686">
                  <a:moveTo>
                    <a:pt x="108636" y="0"/>
                  </a:moveTo>
                  <a:lnTo>
                    <a:pt x="2771684" y="0"/>
                  </a:lnTo>
                  <a:cubicBezTo>
                    <a:pt x="2831682" y="0"/>
                    <a:pt x="2880320" y="48638"/>
                    <a:pt x="2880320" y="108636"/>
                  </a:cubicBezTo>
                  <a:lnTo>
                    <a:pt x="2880320" y="651686"/>
                  </a:lnTo>
                  <a:lnTo>
                    <a:pt x="2880320" y="651686"/>
                  </a:lnTo>
                  <a:lnTo>
                    <a:pt x="0" y="651686"/>
                  </a:lnTo>
                  <a:lnTo>
                    <a:pt x="0" y="651686"/>
                  </a:lnTo>
                  <a:lnTo>
                    <a:pt x="0" y="108636"/>
                  </a:lnTo>
                  <a:cubicBezTo>
                    <a:pt x="0" y="48638"/>
                    <a:pt x="48638" y="0"/>
                    <a:pt x="108636" y="0"/>
                  </a:cubicBezTo>
                  <a:close/>
                </a:path>
              </a:pathLst>
            </a:custGeom>
            <a:solidFill>
              <a:srgbClr val="582a04"/>
            </a:solidFill>
            <a:ln w="2556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圓角化同側角落矩形 6"/>
            <p:cNvSpPr/>
            <p:nvPr/>
          </p:nvSpPr>
          <p:spPr>
            <a:xfrm>
              <a:off x="642960" y="754200"/>
              <a:ext cx="2768760" cy="825480"/>
            </a:xfrm>
            <a:prstGeom prst="rect">
              <a:avLst/>
            </a:prstGeom>
            <a:solidFill>
              <a:srgbClr val="582a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749"/>
                </a:spcAft>
                <a:tabLst>
                  <a:tab algn="l" pos="0"/>
                  <a:tab algn="l" pos="1778040"/>
                  <a:tab algn="l" pos="3556080"/>
                  <a:tab algn="l" pos="5334120"/>
                  <a:tab algn="l" pos="7112160"/>
                  <a:tab algn="l" pos="8889840"/>
                  <a:tab algn="l" pos="1066788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微軟正黑體"/>
                  <a:ea typeface="微軟正黑體"/>
                </a:rPr>
                <a:t>8.</a:t>
              </a:r>
              <a:r>
                <a:rPr b="1" lang="zh-TW" sz="4000" spc="-1" strike="noStrike">
                  <a:solidFill>
                    <a:srgbClr val="ffffff"/>
                  </a:solidFill>
                  <a:latin typeface="微軟正黑體"/>
                  <a:ea typeface="微軟正黑體"/>
                </a:rPr>
                <a:t>當機處理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矩形 63"/>
          <p:cNvSpPr/>
          <p:nvPr/>
        </p:nvSpPr>
        <p:spPr>
          <a:xfrm>
            <a:off x="611280" y="1589040"/>
            <a:ext cx="821196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直線接點 62"/>
          <p:cNvSpPr/>
          <p:nvPr/>
        </p:nvSpPr>
        <p:spPr>
          <a:xfrm flipV="1">
            <a:off x="755640" y="1588680"/>
            <a:ext cx="7929720" cy="1800"/>
          </a:xfrm>
          <a:prstGeom prst="line">
            <a:avLst/>
          </a:prstGeom>
          <a:ln w="25560">
            <a:solidFill>
              <a:srgbClr val="3d6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" descr="E:\Maxine\圖片\教學影片-請點我.jpg"/>
          <p:cNvPicPr/>
          <p:nvPr/>
        </p:nvPicPr>
        <p:blipFill>
          <a:blip r:embed="rId1"/>
          <a:stretch/>
        </p:blipFill>
        <p:spPr>
          <a:xfrm>
            <a:off x="7596360" y="66600"/>
            <a:ext cx="1145880" cy="1490760"/>
          </a:xfrm>
          <a:prstGeom prst="rect">
            <a:avLst/>
          </a:prstGeom>
          <a:ln w="0">
            <a:noFill/>
          </a:ln>
        </p:spPr>
      </p:pic>
      <p:pic>
        <p:nvPicPr>
          <p:cNvPr id="224" name="1-8 當機處理.mp4" descr=""/>
          <p:cNvPicPr/>
          <p:nvPr/>
        </p:nvPicPr>
        <p:blipFill>
          <a:blip r:embed="rId2"/>
          <a:stretch/>
        </p:blipFill>
        <p:spPr>
          <a:xfrm>
            <a:off x="4716360" y="1989000"/>
            <a:ext cx="4106880" cy="3079800"/>
          </a:xfrm>
          <a:prstGeom prst="rect">
            <a:avLst/>
          </a:prstGeom>
          <a:ln w="0">
            <a:noFill/>
          </a:ln>
        </p:spPr>
      </p:pic>
      <p:sp>
        <p:nvSpPr>
          <p:cNvPr id="225" name="流程圖: 延遲 15"/>
          <p:cNvSpPr/>
          <p:nvPr/>
        </p:nvSpPr>
        <p:spPr>
          <a:xfrm>
            <a:off x="4716360" y="5329080"/>
            <a:ext cx="2016360" cy="792360"/>
          </a:xfrm>
          <a:prstGeom prst="flowChartDelay">
            <a:avLst/>
          </a:prstGeom>
          <a:gradFill rotWithShape="0">
            <a:gsLst>
              <a:gs pos="0">
                <a:srgbClr val="d1403c"/>
              </a:gs>
              <a:gs pos="100000">
                <a:srgbClr val="ff9a99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回目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0"/>
          <p:cNvSpPr/>
          <p:nvPr/>
        </p:nvSpPr>
        <p:spPr>
          <a:xfrm>
            <a:off x="322200" y="2023920"/>
            <a:ext cx="41054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lvl="1" marL="457200" indent="-45720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當電子書因操作不當或按任何按鍵均無反應時，此時，應可作當機處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8" dur="1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矩形 32"/>
          <p:cNvSpPr/>
          <p:nvPr/>
        </p:nvSpPr>
        <p:spPr>
          <a:xfrm>
            <a:off x="3603600" y="909720"/>
            <a:ext cx="517356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群組 25"/>
          <p:cNvGrpSpPr/>
          <p:nvPr/>
        </p:nvGrpSpPr>
        <p:grpSpPr>
          <a:xfrm>
            <a:off x="617400" y="692280"/>
            <a:ext cx="2832120" cy="866520"/>
            <a:chOff x="617400" y="692280"/>
            <a:chExt cx="2832120" cy="866520"/>
          </a:xfrm>
        </p:grpSpPr>
        <p:sp>
          <p:nvSpPr>
            <p:cNvPr id="229" name="圓角化同側角落矩形 30"/>
            <p:cNvSpPr/>
            <p:nvPr/>
          </p:nvSpPr>
          <p:spPr>
            <a:xfrm>
              <a:off x="617400" y="692280"/>
              <a:ext cx="2832120" cy="866520"/>
            </a:xfrm>
            <a:custGeom>
              <a:avLst/>
              <a:gdLst/>
              <a:ahLst/>
              <a:rect l="l" t="t" r="r" b="b"/>
              <a:pathLst>
                <a:path w="2880320" h="651686">
                  <a:moveTo>
                    <a:pt x="108636" y="0"/>
                  </a:moveTo>
                  <a:lnTo>
                    <a:pt x="2771684" y="0"/>
                  </a:lnTo>
                  <a:cubicBezTo>
                    <a:pt x="2831682" y="0"/>
                    <a:pt x="2880320" y="48638"/>
                    <a:pt x="2880320" y="108636"/>
                  </a:cubicBezTo>
                  <a:lnTo>
                    <a:pt x="2880320" y="651686"/>
                  </a:lnTo>
                  <a:lnTo>
                    <a:pt x="2880320" y="651686"/>
                  </a:lnTo>
                  <a:lnTo>
                    <a:pt x="0" y="651686"/>
                  </a:lnTo>
                  <a:lnTo>
                    <a:pt x="0" y="651686"/>
                  </a:lnTo>
                  <a:lnTo>
                    <a:pt x="0" y="108636"/>
                  </a:lnTo>
                  <a:cubicBezTo>
                    <a:pt x="0" y="48638"/>
                    <a:pt x="48638" y="0"/>
                    <a:pt x="108636" y="0"/>
                  </a:cubicBezTo>
                  <a:close/>
                </a:path>
              </a:pathLst>
            </a:custGeom>
            <a:solidFill>
              <a:srgbClr val="582a04"/>
            </a:solidFill>
            <a:ln w="2556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圓角化同側角落矩形 6"/>
            <p:cNvSpPr/>
            <p:nvPr/>
          </p:nvSpPr>
          <p:spPr>
            <a:xfrm>
              <a:off x="649080" y="735120"/>
              <a:ext cx="2768760" cy="823680"/>
            </a:xfrm>
            <a:prstGeom prst="rect">
              <a:avLst/>
            </a:prstGeom>
            <a:solidFill>
              <a:srgbClr val="582a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749"/>
                </a:spcAft>
                <a:tabLst>
                  <a:tab algn="l" pos="0"/>
                  <a:tab algn="l" pos="1778040"/>
                  <a:tab algn="l" pos="3556080"/>
                  <a:tab algn="l" pos="5334120"/>
                  <a:tab algn="l" pos="7112160"/>
                  <a:tab algn="l" pos="8889840"/>
                  <a:tab algn="l" pos="1066788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微軟正黑體"/>
                  <a:ea typeface="微軟正黑體"/>
                </a:rPr>
                <a:t>9.</a:t>
              </a:r>
              <a:r>
                <a:rPr b="1" lang="zh-TW" sz="4000" spc="-1" strike="noStrike">
                  <a:solidFill>
                    <a:srgbClr val="ffffff"/>
                  </a:solidFill>
                  <a:latin typeface="微軟正黑體"/>
                  <a:ea typeface="微軟正黑體"/>
                </a:rPr>
                <a:t>充電相關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矩形 28"/>
          <p:cNvSpPr/>
          <p:nvPr/>
        </p:nvSpPr>
        <p:spPr>
          <a:xfrm>
            <a:off x="617400" y="1569960"/>
            <a:ext cx="821232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直線接點 27"/>
          <p:cNvSpPr/>
          <p:nvPr/>
        </p:nvSpPr>
        <p:spPr>
          <a:xfrm flipV="1">
            <a:off x="762120" y="1569600"/>
            <a:ext cx="7929360" cy="1800"/>
          </a:xfrm>
          <a:prstGeom prst="line">
            <a:avLst/>
          </a:prstGeom>
          <a:ln w="25560">
            <a:solidFill>
              <a:srgbClr val="3d6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3" descr="E:\Maxine\圖片\教學影片-請點我.jpg"/>
          <p:cNvPicPr/>
          <p:nvPr/>
        </p:nvPicPr>
        <p:blipFill>
          <a:blip r:embed="rId1"/>
          <a:stretch/>
        </p:blipFill>
        <p:spPr>
          <a:xfrm>
            <a:off x="7545240" y="-11160"/>
            <a:ext cx="1146240" cy="1492200"/>
          </a:xfrm>
          <a:prstGeom prst="rect">
            <a:avLst/>
          </a:prstGeom>
          <a:ln w="0">
            <a:noFill/>
          </a:ln>
        </p:spPr>
      </p:pic>
      <p:pic>
        <p:nvPicPr>
          <p:cNvPr id="234" name="1-9 充電注意事項.mp4" descr=""/>
          <p:cNvPicPr/>
          <p:nvPr/>
        </p:nvPicPr>
        <p:blipFill>
          <a:blip r:embed="rId2"/>
          <a:stretch/>
        </p:blipFill>
        <p:spPr>
          <a:xfrm>
            <a:off x="4722840" y="1974960"/>
            <a:ext cx="4148280" cy="3109680"/>
          </a:xfrm>
          <a:prstGeom prst="rect">
            <a:avLst/>
          </a:prstGeom>
          <a:ln w="0">
            <a:noFill/>
          </a:ln>
        </p:spPr>
      </p:pic>
      <p:sp>
        <p:nvSpPr>
          <p:cNvPr id="235" name="流程圖: 延遲 15"/>
          <p:cNvSpPr/>
          <p:nvPr/>
        </p:nvSpPr>
        <p:spPr>
          <a:xfrm>
            <a:off x="4716360" y="5329080"/>
            <a:ext cx="2016360" cy="792360"/>
          </a:xfrm>
          <a:prstGeom prst="flowChartDelay">
            <a:avLst/>
          </a:prstGeom>
          <a:gradFill rotWithShape="0">
            <a:gsLst>
              <a:gs pos="0">
                <a:srgbClr val="d1403c"/>
              </a:gs>
              <a:gs pos="100000">
                <a:srgbClr val="ff9a99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回目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0"/>
          <p:cNvSpPr/>
          <p:nvPr/>
        </p:nvSpPr>
        <p:spPr>
          <a:xfrm>
            <a:off x="322200" y="2023920"/>
            <a:ext cx="41054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lvl="1" marL="457200" indent="-45720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當電子書電量過低時</a:t>
            </a:r>
            <a:r>
              <a:rPr b="0" lang="en-US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(30%</a:t>
            </a:r>
            <a:r>
              <a:rPr b="0" lang="zh-TW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以下</a:t>
            </a:r>
            <a:r>
              <a:rPr b="0" lang="en-US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，即需立即充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4" dur="1" fill="hold"/>
                                        <p:tgtEl>
                                          <p:spTgt spid="2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群組 60"/>
          <p:cNvGrpSpPr/>
          <p:nvPr/>
        </p:nvGrpSpPr>
        <p:grpSpPr>
          <a:xfrm>
            <a:off x="611280" y="692280"/>
            <a:ext cx="3384360" cy="868320"/>
            <a:chOff x="611280" y="692280"/>
            <a:chExt cx="3384360" cy="868320"/>
          </a:xfrm>
        </p:grpSpPr>
        <p:sp>
          <p:nvSpPr>
            <p:cNvPr id="238" name="圓角化同側角落矩形 65"/>
            <p:cNvSpPr/>
            <p:nvPr/>
          </p:nvSpPr>
          <p:spPr>
            <a:xfrm>
              <a:off x="611280" y="692280"/>
              <a:ext cx="3384360" cy="868320"/>
            </a:xfrm>
            <a:custGeom>
              <a:avLst/>
              <a:gdLst/>
              <a:ahLst/>
              <a:rect l="l" t="t" r="r" b="b"/>
              <a:pathLst>
                <a:path w="2880320" h="651686">
                  <a:moveTo>
                    <a:pt x="108636" y="0"/>
                  </a:moveTo>
                  <a:lnTo>
                    <a:pt x="2771684" y="0"/>
                  </a:lnTo>
                  <a:cubicBezTo>
                    <a:pt x="2831682" y="0"/>
                    <a:pt x="2880320" y="48638"/>
                    <a:pt x="2880320" y="108636"/>
                  </a:cubicBezTo>
                  <a:lnTo>
                    <a:pt x="2880320" y="651686"/>
                  </a:lnTo>
                  <a:lnTo>
                    <a:pt x="2880320" y="651686"/>
                  </a:lnTo>
                  <a:lnTo>
                    <a:pt x="0" y="651686"/>
                  </a:lnTo>
                  <a:lnTo>
                    <a:pt x="0" y="651686"/>
                  </a:lnTo>
                  <a:lnTo>
                    <a:pt x="0" y="108636"/>
                  </a:lnTo>
                  <a:cubicBezTo>
                    <a:pt x="0" y="48638"/>
                    <a:pt x="48638" y="0"/>
                    <a:pt x="108636" y="0"/>
                  </a:cubicBez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圓角化同側角落矩形 6"/>
            <p:cNvSpPr/>
            <p:nvPr/>
          </p:nvSpPr>
          <p:spPr>
            <a:xfrm>
              <a:off x="649080" y="735120"/>
              <a:ext cx="3308400" cy="825480"/>
            </a:xfrm>
            <a:prstGeom prst="rect">
              <a:avLst/>
            </a:prstGeom>
            <a:solidFill>
              <a:srgbClr val="582a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749"/>
                </a:spcAft>
                <a:tabLst>
                  <a:tab algn="l" pos="0"/>
                  <a:tab algn="l" pos="1778040"/>
                  <a:tab algn="l" pos="3556080"/>
                  <a:tab algn="l" pos="5334120"/>
                  <a:tab algn="l" pos="7112160"/>
                  <a:tab algn="l" pos="8889840"/>
                  <a:tab algn="l" pos="1066788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微軟正黑體"/>
                  <a:ea typeface="微軟正黑體"/>
                </a:rPr>
                <a:t>10.</a:t>
              </a:r>
              <a:r>
                <a:rPr b="1" lang="zh-TW" sz="4000" spc="-1" strike="noStrike">
                  <a:solidFill>
                    <a:srgbClr val="ffffff"/>
                  </a:solidFill>
                  <a:latin typeface="微軟正黑體"/>
                  <a:ea typeface="微軟正黑體"/>
                </a:rPr>
                <a:t>帳號查詢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矩形 63"/>
          <p:cNvSpPr/>
          <p:nvPr/>
        </p:nvSpPr>
        <p:spPr>
          <a:xfrm>
            <a:off x="611280" y="1569960"/>
            <a:ext cx="821196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直線接點 62"/>
          <p:cNvSpPr/>
          <p:nvPr/>
        </p:nvSpPr>
        <p:spPr>
          <a:xfrm flipV="1">
            <a:off x="755640" y="1569600"/>
            <a:ext cx="7929720" cy="1800"/>
          </a:xfrm>
          <a:prstGeom prst="line">
            <a:avLst/>
          </a:prstGeom>
          <a:ln w="25560">
            <a:solidFill>
              <a:srgbClr val="3d6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流程圖: 延遲 16"/>
          <p:cNvSpPr/>
          <p:nvPr/>
        </p:nvSpPr>
        <p:spPr>
          <a:xfrm>
            <a:off x="4716360" y="5329080"/>
            <a:ext cx="2016360" cy="792360"/>
          </a:xfrm>
          <a:prstGeom prst="flowChartDelay">
            <a:avLst/>
          </a:prstGeom>
          <a:gradFill rotWithShape="0">
            <a:gsLst>
              <a:gs pos="0">
                <a:srgbClr val="d1403c"/>
              </a:gs>
              <a:gs pos="100000">
                <a:srgbClr val="ff9a99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回目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9"/>
          <p:cNvSpPr/>
          <p:nvPr/>
        </p:nvSpPr>
        <p:spPr>
          <a:xfrm>
            <a:off x="322200" y="2023920"/>
            <a:ext cx="41054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lvl="1" marL="457200" indent="-45720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可在慈濟湧泉的個人訊息中，查詢到個人的慈濟帳號</a:t>
            </a:r>
            <a:r>
              <a:rPr b="0" lang="en-US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(LDAP)</a:t>
            </a:r>
            <a:r>
              <a:rPr b="0" lang="zh-TW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1-10 LDAP帳號查詢.mp4" descr=""/>
          <p:cNvPicPr/>
          <p:nvPr/>
        </p:nvPicPr>
        <p:blipFill>
          <a:blip r:embed="rId1"/>
          <a:stretch/>
        </p:blipFill>
        <p:spPr>
          <a:xfrm>
            <a:off x="4719600" y="1996920"/>
            <a:ext cx="4214880" cy="31608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E:\Maxine\圖片\教學影片-請點我.jpg"/>
          <p:cNvPicPr/>
          <p:nvPr/>
        </p:nvPicPr>
        <p:blipFill>
          <a:blip r:embed="rId2"/>
          <a:stretch/>
        </p:blipFill>
        <p:spPr>
          <a:xfrm>
            <a:off x="7545240" y="-11160"/>
            <a:ext cx="1146240" cy="14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57" nodeType="clickEffect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0" dur="1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矩形 32"/>
          <p:cNvSpPr/>
          <p:nvPr/>
        </p:nvSpPr>
        <p:spPr>
          <a:xfrm>
            <a:off x="3583080" y="888840"/>
            <a:ext cx="517356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圓角化同側角落矩形 30"/>
          <p:cNvSpPr/>
          <p:nvPr/>
        </p:nvSpPr>
        <p:spPr>
          <a:xfrm>
            <a:off x="596880" y="671400"/>
            <a:ext cx="2832120" cy="866880"/>
          </a:xfrm>
          <a:custGeom>
            <a:avLst/>
            <a:gdLst/>
            <a:ahLst/>
            <a:rect l="l" t="t" r="r" b="b"/>
            <a:pathLst>
              <a:path w="2832100" h="866775">
                <a:moveTo>
                  <a:pt x="144491" y="0"/>
                </a:moveTo>
                <a:lnTo>
                  <a:pt x="2687609" y="0"/>
                </a:lnTo>
                <a:cubicBezTo>
                  <a:pt x="2767409" y="0"/>
                  <a:pt x="2832100" y="64691"/>
                  <a:pt x="2832100" y="144491"/>
                </a:cubicBezTo>
                <a:lnTo>
                  <a:pt x="2832100" y="866775"/>
                </a:lnTo>
                <a:lnTo>
                  <a:pt x="2832100" y="866775"/>
                </a:lnTo>
                <a:lnTo>
                  <a:pt x="0" y="866775"/>
                </a:lnTo>
                <a:lnTo>
                  <a:pt x="0" y="866775"/>
                </a:lnTo>
                <a:lnTo>
                  <a:pt x="0" y="144491"/>
                </a:lnTo>
                <a:cubicBezTo>
                  <a:pt x="0" y="64691"/>
                  <a:pt x="64691" y="0"/>
                  <a:pt x="144491" y="0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圓角化同側角落矩形 6"/>
          <p:cNvSpPr/>
          <p:nvPr/>
        </p:nvSpPr>
        <p:spPr>
          <a:xfrm>
            <a:off x="628560" y="714240"/>
            <a:ext cx="4664160" cy="824040"/>
          </a:xfrm>
          <a:prstGeom prst="rect">
            <a:avLst/>
          </a:prstGeom>
          <a:solidFill>
            <a:srgbClr val="582a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76320" bIns="76320" anchor="ctr">
            <a:noAutofit/>
          </a:bodyPr>
          <a:p>
            <a:pPr algn="ctr">
              <a:lnSpc>
                <a:spcPct val="90000"/>
              </a:lnSpc>
              <a:spcAft>
                <a:spcPts val="1749"/>
              </a:spcAft>
              <a:tabLst>
                <a:tab algn="l" pos="0"/>
                <a:tab algn="l" pos="1778040"/>
                <a:tab algn="l" pos="3556080"/>
                <a:tab algn="l" pos="5334120"/>
                <a:tab algn="l" pos="7112160"/>
                <a:tab algn="l" pos="8889840"/>
                <a:tab algn="l" pos="106678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11.Google</a:t>
            </a:r>
            <a:r>
              <a:rPr b="1" lang="zh-TW" sz="40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行事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28"/>
          <p:cNvSpPr/>
          <p:nvPr/>
        </p:nvSpPr>
        <p:spPr>
          <a:xfrm>
            <a:off x="596880" y="1549440"/>
            <a:ext cx="8212320" cy="13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直線接點 27"/>
          <p:cNvSpPr/>
          <p:nvPr/>
        </p:nvSpPr>
        <p:spPr>
          <a:xfrm flipV="1">
            <a:off x="741240" y="1549440"/>
            <a:ext cx="7929720" cy="1440"/>
          </a:xfrm>
          <a:prstGeom prst="line">
            <a:avLst/>
          </a:prstGeom>
          <a:ln w="25560">
            <a:solidFill>
              <a:srgbClr val="3d6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3" descr="E:\Maxine\圖片\教學影片-請點我.jpg"/>
          <p:cNvPicPr/>
          <p:nvPr/>
        </p:nvPicPr>
        <p:blipFill>
          <a:blip r:embed="rId1"/>
          <a:stretch/>
        </p:blipFill>
        <p:spPr>
          <a:xfrm>
            <a:off x="7524720" y="44280"/>
            <a:ext cx="1146240" cy="1490760"/>
          </a:xfrm>
          <a:prstGeom prst="rect">
            <a:avLst/>
          </a:prstGeom>
          <a:ln w="0">
            <a:noFill/>
          </a:ln>
        </p:spPr>
      </p:pic>
      <p:sp>
        <p:nvSpPr>
          <p:cNvPr id="252" name="矩形 9"/>
          <p:cNvSpPr/>
          <p:nvPr/>
        </p:nvSpPr>
        <p:spPr>
          <a:xfrm>
            <a:off x="322200" y="2023920"/>
            <a:ext cx="41054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lvl="1" marL="457200" indent="-45720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在行事曆功能中，可增加訂閱</a:t>
            </a:r>
            <a:r>
              <a:rPr b="0" lang="en-US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Google</a:t>
            </a:r>
            <a:r>
              <a:rPr b="0" lang="zh-TW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行事曆，可同時訂閱多個行事曆，方便個人及社區相關行程之時間管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1-11Google行事曆.mp4" descr=""/>
          <p:cNvPicPr/>
          <p:nvPr/>
        </p:nvPicPr>
        <p:blipFill>
          <a:blip r:embed="rId2"/>
          <a:stretch/>
        </p:blipFill>
        <p:spPr>
          <a:xfrm>
            <a:off x="4716360" y="1989000"/>
            <a:ext cx="4224600" cy="3168720"/>
          </a:xfrm>
          <a:prstGeom prst="rect">
            <a:avLst/>
          </a:prstGeom>
          <a:ln w="0">
            <a:noFill/>
          </a:ln>
        </p:spPr>
      </p:pic>
      <p:sp>
        <p:nvSpPr>
          <p:cNvPr id="254" name="流程圖: 延遲 11"/>
          <p:cNvSpPr/>
          <p:nvPr/>
        </p:nvSpPr>
        <p:spPr>
          <a:xfrm>
            <a:off x="4716360" y="5300640"/>
            <a:ext cx="2376720" cy="1231920"/>
          </a:xfrm>
          <a:prstGeom prst="flowChartDelay">
            <a:avLst/>
          </a:prstGeom>
          <a:gradFill rotWithShape="0">
            <a:gsLst>
              <a:gs pos="0">
                <a:srgbClr val="a05900"/>
              </a:gs>
              <a:gs pos="100000">
                <a:srgbClr val="ff9d00"/>
              </a:gs>
            </a:gsLst>
            <a:lin ang="16200000"/>
          </a:gradFill>
          <a:ln w="38160">
            <a:solidFill>
              <a:srgbClr val="c7edc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恭喜您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完成課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6" dur="1" fill="hold"/>
                                        <p:tgtEl>
                                          <p:spTgt spid="2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Shape 135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副標題 2"/>
          <p:cNvSpPr/>
          <p:nvPr/>
        </p:nvSpPr>
        <p:spPr>
          <a:xfrm>
            <a:off x="1187280" y="4410000"/>
            <a:ext cx="68724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99"/>
                </a:solidFill>
                <a:latin typeface="標楷體"/>
                <a:ea typeface="標楷體"/>
              </a:rPr>
              <a:t>感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中區與高雄電子書種子團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協助製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說  明</a:t>
            </a:r>
            <a:endParaRPr b="0" lang="en-US" sz="5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140000" y="1319040"/>
            <a:ext cx="4608360" cy="5096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04920" indent="0"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</a:rPr>
              <a:t>本教學資源，以教學影片為主，以下的每個學習單元，都會出現左圖的電子書公仔引導教學。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marL="304920" indent="0"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0000"/>
                </a:solidFill>
                <a:latin typeface="標楷體"/>
              </a:rPr>
              <a:t>請以「投影片放映」模式播放，影片連結才能使用。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40" name="Shape 86"/>
          <p:cNvSpPr/>
          <p:nvPr/>
        </p:nvSpPr>
        <p:spPr>
          <a:xfrm>
            <a:off x="3127320" y="6380280"/>
            <a:ext cx="16020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rmAutofit fontScale="38000"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999999"/>
                </a:solidFill>
                <a:latin typeface="Arial"/>
                <a:ea typeface="新細明體"/>
              </a:rPr>
              <a:t>http://goo.gl/4lE7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" descr="E:\Maxine\圖片\教學影片-請點我.jpg"/>
          <p:cNvPicPr/>
          <p:nvPr/>
        </p:nvPicPr>
        <p:blipFill>
          <a:blip r:embed="rId1"/>
          <a:stretch/>
        </p:blipFill>
        <p:spPr>
          <a:xfrm>
            <a:off x="395280" y="1268280"/>
            <a:ext cx="3673440" cy="477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資料庫圖表 1" descr=""/>
          <p:cNvPicPr/>
          <p:nvPr/>
        </p:nvPicPr>
        <p:blipFill>
          <a:blip r:embed="rId1"/>
          <a:stretch/>
        </p:blipFill>
        <p:spPr>
          <a:xfrm>
            <a:off x="1835280" y="414360"/>
            <a:ext cx="6095880" cy="6394320"/>
          </a:xfrm>
          <a:prstGeom prst="rect">
            <a:avLst/>
          </a:prstGeom>
          <a:ln w="0">
            <a:noFill/>
          </a:ln>
        </p:spPr>
      </p:pic>
      <p:sp>
        <p:nvSpPr>
          <p:cNvPr id="143" name="文字方塊 6"/>
          <p:cNvSpPr/>
          <p:nvPr/>
        </p:nvSpPr>
        <p:spPr>
          <a:xfrm>
            <a:off x="987480" y="1431720"/>
            <a:ext cx="1003320" cy="38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262626"/>
                </a:solidFill>
                <a:latin typeface="微軟正黑體"/>
                <a:ea typeface="微軟正黑體"/>
              </a:rPr>
              <a:t>學習目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資料庫圖表 1" descr=""/>
          <p:cNvPicPr/>
          <p:nvPr/>
        </p:nvPicPr>
        <p:blipFill>
          <a:blip r:embed="rId1"/>
          <a:stretch/>
        </p:blipFill>
        <p:spPr>
          <a:xfrm>
            <a:off x="1835280" y="476280"/>
            <a:ext cx="6095880" cy="6210360"/>
          </a:xfrm>
          <a:prstGeom prst="rect">
            <a:avLst/>
          </a:prstGeom>
          <a:ln w="0">
            <a:noFill/>
          </a:ln>
        </p:spPr>
      </p:pic>
      <p:sp>
        <p:nvSpPr>
          <p:cNvPr id="145" name="文字方塊 6"/>
          <p:cNvSpPr/>
          <p:nvPr/>
        </p:nvSpPr>
        <p:spPr>
          <a:xfrm>
            <a:off x="987480" y="1431720"/>
            <a:ext cx="1003320" cy="38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262626"/>
                </a:solidFill>
                <a:latin typeface="微軟正黑體"/>
                <a:ea typeface="微軟正黑體"/>
              </a:rPr>
              <a:t>學習目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矩形 14"/>
          <p:cNvSpPr/>
          <p:nvPr/>
        </p:nvSpPr>
        <p:spPr>
          <a:xfrm>
            <a:off x="3575160" y="920880"/>
            <a:ext cx="514188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群組 8" descr=""/>
          <p:cNvPicPr/>
          <p:nvPr/>
        </p:nvPicPr>
        <p:blipFill>
          <a:blip r:embed="rId1"/>
          <a:stretch/>
        </p:blipFill>
        <p:spPr>
          <a:xfrm>
            <a:off x="596880" y="669960"/>
            <a:ext cx="2835360" cy="1073160"/>
          </a:xfrm>
          <a:prstGeom prst="rect">
            <a:avLst/>
          </a:prstGeom>
          <a:ln w="0">
            <a:noFill/>
          </a:ln>
        </p:spPr>
      </p:pic>
      <p:sp>
        <p:nvSpPr>
          <p:cNvPr id="148" name="矩形 10"/>
          <p:cNvSpPr/>
          <p:nvPr/>
        </p:nvSpPr>
        <p:spPr>
          <a:xfrm>
            <a:off x="608040" y="1704960"/>
            <a:ext cx="8159760" cy="13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1"/>
          <p:cNvSpPr/>
          <p:nvPr/>
        </p:nvSpPr>
        <p:spPr>
          <a:xfrm>
            <a:off x="468360" y="2030400"/>
            <a:ext cx="410364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lvl="1" marL="228600" indent="-22860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微軟正黑體"/>
              <a:buChar char="•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閱讀器可設定成自己的名字或法號，以作為識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微軟正黑體"/>
              <a:buChar char="•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手寫辨識速度、顯示筆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微軟正黑體"/>
              <a:buChar char="•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朗讀速度、音調高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直線接點 19"/>
          <p:cNvSpPr/>
          <p:nvPr/>
        </p:nvSpPr>
        <p:spPr>
          <a:xfrm>
            <a:off x="750960" y="1582560"/>
            <a:ext cx="7878600" cy="0"/>
          </a:xfrm>
          <a:prstGeom prst="line">
            <a:avLst/>
          </a:prstGeom>
          <a:ln w="25560">
            <a:solidFill>
              <a:srgbClr val="3d6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E:\Maxine\圖片\教學影片-請點我.jpg"/>
          <p:cNvPicPr/>
          <p:nvPr/>
        </p:nvPicPr>
        <p:blipFill>
          <a:blip r:embed="rId2"/>
          <a:stretch/>
        </p:blipFill>
        <p:spPr>
          <a:xfrm>
            <a:off x="7621560" y="71280"/>
            <a:ext cx="1146240" cy="1490760"/>
          </a:xfrm>
          <a:prstGeom prst="rect">
            <a:avLst/>
          </a:prstGeom>
          <a:ln w="0">
            <a:noFill/>
          </a:ln>
        </p:spPr>
      </p:pic>
      <p:sp>
        <p:nvSpPr>
          <p:cNvPr id="152" name="流程圖: 延遲 25">
            <a:hlinkClick r:id="rId3" action="ppaction://hlinksldjump"/>
          </p:cNvPr>
          <p:cNvSpPr/>
          <p:nvPr/>
        </p:nvSpPr>
        <p:spPr>
          <a:xfrm>
            <a:off x="4716360" y="5329080"/>
            <a:ext cx="2016360" cy="792360"/>
          </a:xfrm>
          <a:prstGeom prst="flowChartDelay">
            <a:avLst/>
          </a:prstGeom>
          <a:gradFill rotWithShape="0">
            <a:gsLst>
              <a:gs pos="0">
                <a:srgbClr val="d1403c"/>
              </a:gs>
              <a:gs pos="100000">
                <a:srgbClr val="ff9a99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回目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1-1設定.mp4" descr=""/>
          <p:cNvPicPr/>
          <p:nvPr/>
        </p:nvPicPr>
        <p:blipFill>
          <a:blip r:embed="rId4"/>
          <a:stretch/>
        </p:blipFill>
        <p:spPr>
          <a:xfrm>
            <a:off x="4716360" y="1989000"/>
            <a:ext cx="4127760" cy="3095640"/>
          </a:xfrm>
          <a:prstGeom prst="rect">
            <a:avLst/>
          </a:prstGeom>
          <a:ln w="0">
            <a:noFill/>
          </a:ln>
        </p:spPr>
      </p:pic>
      <p:sp>
        <p:nvSpPr>
          <p:cNvPr id="154" name="文字方塊 1"/>
          <p:cNvSpPr/>
          <p:nvPr/>
        </p:nvSpPr>
        <p:spPr>
          <a:xfrm>
            <a:off x="3687840" y="920880"/>
            <a:ext cx="304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首頁</a:t>
            </a:r>
            <a:r>
              <a:rPr b="0" lang="en-US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&gt;</a:t>
            </a:r>
            <a:r>
              <a:rPr b="0" lang="zh-TW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設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矩形 31"/>
          <p:cNvSpPr/>
          <p:nvPr/>
        </p:nvSpPr>
        <p:spPr>
          <a:xfrm>
            <a:off x="3586320" y="942840"/>
            <a:ext cx="51958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群組 24"/>
          <p:cNvGrpSpPr/>
          <p:nvPr/>
        </p:nvGrpSpPr>
        <p:grpSpPr>
          <a:xfrm>
            <a:off x="587520" y="692280"/>
            <a:ext cx="2842920" cy="901440"/>
            <a:chOff x="587520" y="692280"/>
            <a:chExt cx="2842920" cy="901440"/>
          </a:xfrm>
        </p:grpSpPr>
        <p:sp>
          <p:nvSpPr>
            <p:cNvPr id="157" name="圓角化同側角落矩形 29"/>
            <p:cNvSpPr/>
            <p:nvPr/>
          </p:nvSpPr>
          <p:spPr>
            <a:xfrm>
              <a:off x="587520" y="692280"/>
              <a:ext cx="2842920" cy="901440"/>
            </a:xfrm>
            <a:custGeom>
              <a:avLst/>
              <a:gdLst/>
              <a:ahLst/>
              <a:rect l="l" t="t" r="r" b="b"/>
              <a:pathLst>
                <a:path w="2880320" h="651686">
                  <a:moveTo>
                    <a:pt x="108636" y="0"/>
                  </a:moveTo>
                  <a:lnTo>
                    <a:pt x="2771684" y="0"/>
                  </a:lnTo>
                  <a:cubicBezTo>
                    <a:pt x="2831682" y="0"/>
                    <a:pt x="2880320" y="48638"/>
                    <a:pt x="2880320" y="108636"/>
                  </a:cubicBezTo>
                  <a:lnTo>
                    <a:pt x="2880320" y="651686"/>
                  </a:lnTo>
                  <a:lnTo>
                    <a:pt x="2880320" y="651686"/>
                  </a:lnTo>
                  <a:lnTo>
                    <a:pt x="0" y="651686"/>
                  </a:lnTo>
                  <a:lnTo>
                    <a:pt x="0" y="651686"/>
                  </a:lnTo>
                  <a:lnTo>
                    <a:pt x="0" y="108636"/>
                  </a:lnTo>
                  <a:cubicBezTo>
                    <a:pt x="0" y="48638"/>
                    <a:pt x="48638" y="0"/>
                    <a:pt x="108636" y="0"/>
                  </a:cubicBezTo>
                  <a:close/>
                </a:path>
              </a:pathLst>
            </a:custGeom>
            <a:solidFill>
              <a:srgbClr val="c09200"/>
            </a:solidFill>
            <a:ln w="2556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圓角化同側角落矩形 6"/>
            <p:cNvSpPr/>
            <p:nvPr/>
          </p:nvSpPr>
          <p:spPr>
            <a:xfrm>
              <a:off x="619200" y="736560"/>
              <a:ext cx="2779560" cy="857160"/>
            </a:xfrm>
            <a:prstGeom prst="rect">
              <a:avLst/>
            </a:prstGeom>
            <a:solidFill>
              <a:srgbClr val="582a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749"/>
                </a:spcAft>
                <a:tabLst>
                  <a:tab algn="l" pos="0"/>
                  <a:tab algn="l" pos="1778040"/>
                  <a:tab algn="l" pos="3556080"/>
                  <a:tab algn="l" pos="5334120"/>
                  <a:tab algn="l" pos="7112160"/>
                  <a:tab algn="l" pos="8889840"/>
                  <a:tab algn="l" pos="1066788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微軟正黑體"/>
                  <a:ea typeface="微軟正黑體"/>
                </a:rPr>
                <a:t>2.</a:t>
              </a:r>
              <a:r>
                <a:rPr b="1" lang="zh-TW" sz="4000" spc="-1" strike="noStrike">
                  <a:solidFill>
                    <a:srgbClr val="ffffff"/>
                  </a:solidFill>
                  <a:latin typeface="微軟正黑體"/>
                  <a:ea typeface="微軟正黑體"/>
                </a:rPr>
                <a:t>網路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矩形 27"/>
          <p:cNvSpPr/>
          <p:nvPr/>
        </p:nvSpPr>
        <p:spPr>
          <a:xfrm>
            <a:off x="587520" y="1719360"/>
            <a:ext cx="8246880" cy="13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28"/>
          <p:cNvSpPr/>
          <p:nvPr/>
        </p:nvSpPr>
        <p:spPr>
          <a:xfrm>
            <a:off x="324000" y="2001960"/>
            <a:ext cx="4122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lvl="1" marL="228600" indent="-22860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微軟正黑體"/>
              <a:buChar char="•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無線上網設定</a:t>
            </a:r>
            <a:r>
              <a:rPr b="0" lang="en-US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(Wi-F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微軟正黑體"/>
              <a:buChar char="•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無線金鑰密碼設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微軟正黑體"/>
              <a:buChar char="•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網路連線管理、搜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直線接點 26"/>
          <p:cNvSpPr/>
          <p:nvPr/>
        </p:nvSpPr>
        <p:spPr>
          <a:xfrm flipV="1">
            <a:off x="731880" y="1603440"/>
            <a:ext cx="7962840" cy="1440"/>
          </a:xfrm>
          <a:prstGeom prst="line">
            <a:avLst/>
          </a:prstGeom>
          <a:ln w="25560">
            <a:solidFill>
              <a:srgbClr val="3d6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3" descr="E:\Maxine\圖片\教學影片-請點我.jpg"/>
          <p:cNvPicPr/>
          <p:nvPr/>
        </p:nvPicPr>
        <p:blipFill>
          <a:blip r:embed="rId1"/>
          <a:stretch/>
        </p:blipFill>
        <p:spPr>
          <a:xfrm>
            <a:off x="7626240" y="103320"/>
            <a:ext cx="1146240" cy="1490400"/>
          </a:xfrm>
          <a:prstGeom prst="rect">
            <a:avLst/>
          </a:prstGeom>
          <a:ln w="0">
            <a:noFill/>
          </a:ln>
        </p:spPr>
      </p:pic>
      <p:pic>
        <p:nvPicPr>
          <p:cNvPr id="163" name="1-2網路.mp4" descr=""/>
          <p:cNvPicPr/>
          <p:nvPr/>
        </p:nvPicPr>
        <p:blipFill>
          <a:blip r:embed="rId2"/>
          <a:stretch/>
        </p:blipFill>
        <p:spPr>
          <a:xfrm>
            <a:off x="4745160" y="1989000"/>
            <a:ext cx="4091040" cy="3068640"/>
          </a:xfrm>
          <a:prstGeom prst="rect">
            <a:avLst/>
          </a:prstGeom>
          <a:ln w="0">
            <a:noFill/>
          </a:ln>
        </p:spPr>
      </p:pic>
      <p:sp>
        <p:nvSpPr>
          <p:cNvPr id="164" name="流程圖: 延遲 15">
            <a:hlinkClick r:id="rId3" action="ppaction://hlinksldjump"/>
          </p:cNvPr>
          <p:cNvSpPr/>
          <p:nvPr/>
        </p:nvSpPr>
        <p:spPr>
          <a:xfrm>
            <a:off x="4716360" y="5329080"/>
            <a:ext cx="2016360" cy="792360"/>
          </a:xfrm>
          <a:prstGeom prst="flowChartDelay">
            <a:avLst/>
          </a:prstGeom>
          <a:gradFill rotWithShape="0">
            <a:gsLst>
              <a:gs pos="0">
                <a:srgbClr val="d1403c"/>
              </a:gs>
              <a:gs pos="100000">
                <a:srgbClr val="ff9a99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回目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字方塊 11"/>
          <p:cNvSpPr/>
          <p:nvPr/>
        </p:nvSpPr>
        <p:spPr>
          <a:xfrm>
            <a:off x="3586320" y="1006560"/>
            <a:ext cx="304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首頁</a:t>
            </a:r>
            <a:r>
              <a:rPr b="0" lang="en-US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&gt;</a:t>
            </a:r>
            <a:r>
              <a:rPr b="0" lang="zh-TW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設定</a:t>
            </a:r>
            <a:r>
              <a:rPr b="0" lang="en-US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&gt;</a:t>
            </a:r>
            <a:r>
              <a:rPr b="0" lang="zh-TW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網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矩形 43"/>
          <p:cNvSpPr/>
          <p:nvPr/>
        </p:nvSpPr>
        <p:spPr>
          <a:xfrm>
            <a:off x="3597120" y="909720"/>
            <a:ext cx="51739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群組 36"/>
          <p:cNvGrpSpPr/>
          <p:nvPr/>
        </p:nvGrpSpPr>
        <p:grpSpPr>
          <a:xfrm>
            <a:off x="611280" y="692280"/>
            <a:ext cx="2832120" cy="866520"/>
            <a:chOff x="611280" y="692280"/>
            <a:chExt cx="2832120" cy="866520"/>
          </a:xfrm>
        </p:grpSpPr>
        <p:sp>
          <p:nvSpPr>
            <p:cNvPr id="168" name="圓角化同側角落矩形 41"/>
            <p:cNvSpPr/>
            <p:nvPr/>
          </p:nvSpPr>
          <p:spPr>
            <a:xfrm>
              <a:off x="611280" y="692280"/>
              <a:ext cx="2832120" cy="866520"/>
            </a:xfrm>
            <a:custGeom>
              <a:avLst/>
              <a:gdLst/>
              <a:ahLst/>
              <a:rect l="l" t="t" r="r" b="b"/>
              <a:pathLst>
                <a:path w="2880320" h="651686">
                  <a:moveTo>
                    <a:pt x="108636" y="0"/>
                  </a:moveTo>
                  <a:lnTo>
                    <a:pt x="2771684" y="0"/>
                  </a:lnTo>
                  <a:cubicBezTo>
                    <a:pt x="2831682" y="0"/>
                    <a:pt x="2880320" y="48638"/>
                    <a:pt x="2880320" y="108636"/>
                  </a:cubicBezTo>
                  <a:lnTo>
                    <a:pt x="2880320" y="651686"/>
                  </a:lnTo>
                  <a:lnTo>
                    <a:pt x="2880320" y="651686"/>
                  </a:lnTo>
                  <a:lnTo>
                    <a:pt x="0" y="651686"/>
                  </a:lnTo>
                  <a:lnTo>
                    <a:pt x="0" y="651686"/>
                  </a:lnTo>
                  <a:lnTo>
                    <a:pt x="0" y="108636"/>
                  </a:lnTo>
                  <a:cubicBezTo>
                    <a:pt x="0" y="48638"/>
                    <a:pt x="48638" y="0"/>
                    <a:pt x="108636" y="0"/>
                  </a:cubicBezTo>
                  <a:close/>
                </a:path>
              </a:pathLst>
            </a:custGeom>
            <a:solidFill>
              <a:srgbClr val="1b5222"/>
            </a:solidFill>
            <a:ln w="2556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圓角化同側角落矩形 6"/>
            <p:cNvSpPr/>
            <p:nvPr/>
          </p:nvSpPr>
          <p:spPr>
            <a:xfrm>
              <a:off x="642960" y="735120"/>
              <a:ext cx="2768760" cy="823680"/>
            </a:xfrm>
            <a:prstGeom prst="rect">
              <a:avLst/>
            </a:prstGeom>
            <a:solidFill>
              <a:srgbClr val="582a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749"/>
                </a:spcAft>
                <a:tabLst>
                  <a:tab algn="l" pos="0"/>
                  <a:tab algn="l" pos="1778040"/>
                  <a:tab algn="l" pos="3556080"/>
                  <a:tab algn="l" pos="5334120"/>
                  <a:tab algn="l" pos="7112160"/>
                  <a:tab algn="l" pos="8889840"/>
                  <a:tab algn="l" pos="1066788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微軟正黑體"/>
                  <a:ea typeface="微軟正黑體"/>
                </a:rPr>
                <a:t>3.</a:t>
              </a:r>
              <a:r>
                <a:rPr b="1" lang="zh-TW" sz="4000" spc="-1" strike="noStrike">
                  <a:solidFill>
                    <a:srgbClr val="ffffff"/>
                  </a:solidFill>
                  <a:latin typeface="微軟正黑體"/>
                  <a:ea typeface="微軟正黑體"/>
                </a:rPr>
                <a:t>行事曆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矩形 39"/>
          <p:cNvSpPr/>
          <p:nvPr/>
        </p:nvSpPr>
        <p:spPr>
          <a:xfrm>
            <a:off x="611280" y="1569960"/>
            <a:ext cx="821196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直線接點 38"/>
          <p:cNvSpPr/>
          <p:nvPr/>
        </p:nvSpPr>
        <p:spPr>
          <a:xfrm flipV="1">
            <a:off x="755640" y="1569600"/>
            <a:ext cx="7929720" cy="1800"/>
          </a:xfrm>
          <a:prstGeom prst="line">
            <a:avLst/>
          </a:prstGeom>
          <a:ln w="25560">
            <a:solidFill>
              <a:srgbClr val="3d6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" descr="E:\Maxine\圖片\教學影片-請點我.jpg"/>
          <p:cNvPicPr/>
          <p:nvPr/>
        </p:nvPicPr>
        <p:blipFill>
          <a:blip r:embed="rId1"/>
          <a:stretch/>
        </p:blipFill>
        <p:spPr>
          <a:xfrm>
            <a:off x="7539120" y="69840"/>
            <a:ext cx="1146240" cy="1490760"/>
          </a:xfrm>
          <a:prstGeom prst="rect">
            <a:avLst/>
          </a:prstGeom>
          <a:ln w="0">
            <a:noFill/>
          </a:ln>
        </p:spPr>
      </p:pic>
      <p:pic>
        <p:nvPicPr>
          <p:cNvPr id="173" name="1-3行事曆.mp4" descr=""/>
          <p:cNvPicPr/>
          <p:nvPr/>
        </p:nvPicPr>
        <p:blipFill>
          <a:blip r:embed="rId2"/>
          <a:stretch/>
        </p:blipFill>
        <p:spPr>
          <a:xfrm>
            <a:off x="4757760" y="1989000"/>
            <a:ext cx="4032360" cy="3024360"/>
          </a:xfrm>
          <a:prstGeom prst="rect">
            <a:avLst/>
          </a:prstGeom>
          <a:ln w="0">
            <a:noFill/>
          </a:ln>
        </p:spPr>
      </p:pic>
      <p:sp>
        <p:nvSpPr>
          <p:cNvPr id="174" name="流程圖: 延遲 15">
            <a:hlinkClick r:id="rId3" action="ppaction://hlinksldjump"/>
          </p:cNvPr>
          <p:cNvSpPr/>
          <p:nvPr/>
        </p:nvSpPr>
        <p:spPr>
          <a:xfrm>
            <a:off x="4716360" y="5329080"/>
            <a:ext cx="2016360" cy="792360"/>
          </a:xfrm>
          <a:prstGeom prst="flowChartDelay">
            <a:avLst/>
          </a:prstGeom>
          <a:gradFill rotWithShape="0">
            <a:gsLst>
              <a:gs pos="0">
                <a:srgbClr val="d1403c"/>
              </a:gs>
              <a:gs pos="100000">
                <a:srgbClr val="ff9a99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回目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0"/>
          <p:cNvSpPr/>
          <p:nvPr/>
        </p:nvSpPr>
        <p:spPr>
          <a:xfrm>
            <a:off x="324000" y="2001960"/>
            <a:ext cx="412272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lvl="1" marL="228600" indent="-22860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微軟正黑體"/>
              <a:buChar char="•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個人行事曆</a:t>
            </a:r>
            <a:r>
              <a:rPr b="0" lang="zh-TW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：可將個人每天的行事曆記錄到電子書中，方便個人的行程規劃與提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微軟正黑體"/>
              <a:buChar char="•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社區活動行事曆</a:t>
            </a:r>
            <a:r>
              <a:rPr b="0" lang="zh-TW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：訂閱社區活動的行事曆，方便與會員方享社區的相關活動訊息；可訂閱自己的和氣區或合心區活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微軟正黑體"/>
              <a:buChar char="•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字方塊 11"/>
          <p:cNvSpPr/>
          <p:nvPr/>
        </p:nvSpPr>
        <p:spPr>
          <a:xfrm>
            <a:off x="3586320" y="1006560"/>
            <a:ext cx="304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首頁</a:t>
            </a:r>
            <a:r>
              <a:rPr b="0" lang="en-US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&gt;</a:t>
            </a:r>
            <a:r>
              <a:rPr b="0" lang="zh-TW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行事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矩形 43"/>
          <p:cNvSpPr/>
          <p:nvPr/>
        </p:nvSpPr>
        <p:spPr>
          <a:xfrm>
            <a:off x="3597120" y="925560"/>
            <a:ext cx="51739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群組 36"/>
          <p:cNvGrpSpPr/>
          <p:nvPr/>
        </p:nvGrpSpPr>
        <p:grpSpPr>
          <a:xfrm>
            <a:off x="611280" y="708120"/>
            <a:ext cx="2832120" cy="866520"/>
            <a:chOff x="611280" y="708120"/>
            <a:chExt cx="2832120" cy="866520"/>
          </a:xfrm>
        </p:grpSpPr>
        <p:sp>
          <p:nvSpPr>
            <p:cNvPr id="179" name="圓角化同側角落矩形 41"/>
            <p:cNvSpPr/>
            <p:nvPr/>
          </p:nvSpPr>
          <p:spPr>
            <a:xfrm>
              <a:off x="611280" y="708120"/>
              <a:ext cx="2832120" cy="866520"/>
            </a:xfrm>
            <a:custGeom>
              <a:avLst/>
              <a:gdLst/>
              <a:ahLst/>
              <a:rect l="l" t="t" r="r" b="b"/>
              <a:pathLst>
                <a:path w="2880320" h="651686">
                  <a:moveTo>
                    <a:pt x="108636" y="0"/>
                  </a:moveTo>
                  <a:lnTo>
                    <a:pt x="2771684" y="0"/>
                  </a:lnTo>
                  <a:cubicBezTo>
                    <a:pt x="2831682" y="0"/>
                    <a:pt x="2880320" y="48638"/>
                    <a:pt x="2880320" y="108636"/>
                  </a:cubicBezTo>
                  <a:lnTo>
                    <a:pt x="2880320" y="651686"/>
                  </a:lnTo>
                  <a:lnTo>
                    <a:pt x="2880320" y="651686"/>
                  </a:lnTo>
                  <a:lnTo>
                    <a:pt x="0" y="651686"/>
                  </a:lnTo>
                  <a:lnTo>
                    <a:pt x="0" y="651686"/>
                  </a:lnTo>
                  <a:lnTo>
                    <a:pt x="0" y="108636"/>
                  </a:lnTo>
                  <a:cubicBezTo>
                    <a:pt x="0" y="48638"/>
                    <a:pt x="48638" y="0"/>
                    <a:pt x="108636" y="0"/>
                  </a:cubicBezTo>
                  <a:close/>
                </a:path>
              </a:pathLst>
            </a:custGeom>
            <a:solidFill>
              <a:srgbClr val="1b5222"/>
            </a:solidFill>
            <a:ln w="2556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圓角化同側角落矩形 6"/>
            <p:cNvSpPr/>
            <p:nvPr/>
          </p:nvSpPr>
          <p:spPr>
            <a:xfrm>
              <a:off x="642960" y="750960"/>
              <a:ext cx="2768760" cy="823680"/>
            </a:xfrm>
            <a:prstGeom prst="rect">
              <a:avLst/>
            </a:prstGeom>
            <a:solidFill>
              <a:srgbClr val="582a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749"/>
                </a:spcAft>
                <a:tabLst>
                  <a:tab algn="l" pos="0"/>
                  <a:tab algn="l" pos="1778040"/>
                  <a:tab algn="l" pos="3556080"/>
                  <a:tab algn="l" pos="5334120"/>
                  <a:tab algn="l" pos="7112160"/>
                  <a:tab algn="l" pos="8889840"/>
                  <a:tab algn="l" pos="1066788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微軟正黑體"/>
                  <a:ea typeface="微軟正黑體"/>
                </a:rPr>
                <a:t>4.</a:t>
              </a:r>
              <a:r>
                <a:rPr b="1" lang="zh-TW" sz="4000" spc="-1" strike="noStrike">
                  <a:solidFill>
                    <a:srgbClr val="ffffff"/>
                  </a:solidFill>
                  <a:latin typeface="微軟正黑體"/>
                  <a:ea typeface="微軟正黑體"/>
                </a:rPr>
                <a:t>下載分類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矩形 39"/>
          <p:cNvSpPr/>
          <p:nvPr/>
        </p:nvSpPr>
        <p:spPr>
          <a:xfrm>
            <a:off x="611280" y="1585800"/>
            <a:ext cx="821196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40"/>
          <p:cNvSpPr/>
          <p:nvPr/>
        </p:nvSpPr>
        <p:spPr>
          <a:xfrm>
            <a:off x="485640" y="1981080"/>
            <a:ext cx="41054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lvl="1" marL="228600" indent="-22860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微軟正黑體"/>
              <a:buChar char="•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若從慈濟湧泉下載有字幕的音樂時，音樂與字幕的文字會存在不同的資料夾中，需將字幕的文字檔移至相同的資料夾，如此，播放音樂時，才會同步出現字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直線接點 38"/>
          <p:cNvSpPr/>
          <p:nvPr/>
        </p:nvSpPr>
        <p:spPr>
          <a:xfrm flipV="1">
            <a:off x="755640" y="1585440"/>
            <a:ext cx="7929720" cy="1800"/>
          </a:xfrm>
          <a:prstGeom prst="line">
            <a:avLst/>
          </a:prstGeom>
          <a:ln w="25560">
            <a:solidFill>
              <a:srgbClr val="3d6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3" descr="E:\Maxine\圖片\教學影片-請點我.jpg"/>
          <p:cNvPicPr/>
          <p:nvPr/>
        </p:nvPicPr>
        <p:blipFill>
          <a:blip r:embed="rId1"/>
          <a:stretch/>
        </p:blipFill>
        <p:spPr>
          <a:xfrm>
            <a:off x="7677000" y="68400"/>
            <a:ext cx="1146240" cy="1490400"/>
          </a:xfrm>
          <a:prstGeom prst="rect">
            <a:avLst/>
          </a:prstGeom>
          <a:ln w="0">
            <a:noFill/>
          </a:ln>
        </p:spPr>
      </p:pic>
      <p:pic>
        <p:nvPicPr>
          <p:cNvPr id="185" name="1-4下載分類.mp4" descr=""/>
          <p:cNvPicPr/>
          <p:nvPr/>
        </p:nvPicPr>
        <p:blipFill>
          <a:blip r:embed="rId2"/>
          <a:stretch/>
        </p:blipFill>
        <p:spPr>
          <a:xfrm>
            <a:off x="4721400" y="1981080"/>
            <a:ext cx="4140000" cy="3103560"/>
          </a:xfrm>
          <a:prstGeom prst="rect">
            <a:avLst/>
          </a:prstGeom>
          <a:ln w="0">
            <a:noFill/>
          </a:ln>
        </p:spPr>
      </p:pic>
      <p:sp>
        <p:nvSpPr>
          <p:cNvPr id="186" name="流程圖: 延遲 15">
            <a:hlinkClick r:id="rId3" action="ppaction://hlinksldjump"/>
          </p:cNvPr>
          <p:cNvSpPr/>
          <p:nvPr/>
        </p:nvSpPr>
        <p:spPr>
          <a:xfrm>
            <a:off x="4716360" y="5329080"/>
            <a:ext cx="2016360" cy="792360"/>
          </a:xfrm>
          <a:prstGeom prst="flowChartDelay">
            <a:avLst/>
          </a:prstGeom>
          <a:gradFill rotWithShape="0">
            <a:gsLst>
              <a:gs pos="0">
                <a:srgbClr val="d1403c"/>
              </a:gs>
              <a:gs pos="100000">
                <a:srgbClr val="ff9a99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回目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矩形 23"/>
          <p:cNvSpPr/>
          <p:nvPr/>
        </p:nvSpPr>
        <p:spPr>
          <a:xfrm>
            <a:off x="3780000" y="909720"/>
            <a:ext cx="49878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群組 16"/>
          <p:cNvGrpSpPr/>
          <p:nvPr/>
        </p:nvGrpSpPr>
        <p:grpSpPr>
          <a:xfrm>
            <a:off x="609480" y="692280"/>
            <a:ext cx="3314880" cy="868320"/>
            <a:chOff x="609480" y="692280"/>
            <a:chExt cx="3314880" cy="868320"/>
          </a:xfrm>
        </p:grpSpPr>
        <p:sp>
          <p:nvSpPr>
            <p:cNvPr id="189" name="圓角化同側角落矩形 21"/>
            <p:cNvSpPr/>
            <p:nvPr/>
          </p:nvSpPr>
          <p:spPr>
            <a:xfrm>
              <a:off x="609480" y="692280"/>
              <a:ext cx="3314880" cy="868320"/>
            </a:xfrm>
            <a:custGeom>
              <a:avLst/>
              <a:gdLst/>
              <a:ahLst/>
              <a:rect l="l" t="t" r="r" b="b"/>
              <a:pathLst>
                <a:path w="2878941" h="651686">
                  <a:moveTo>
                    <a:pt x="108636" y="0"/>
                  </a:moveTo>
                  <a:lnTo>
                    <a:pt x="2770305" y="0"/>
                  </a:lnTo>
                  <a:cubicBezTo>
                    <a:pt x="2830303" y="0"/>
                    <a:pt x="2878941" y="48638"/>
                    <a:pt x="2878941" y="108636"/>
                  </a:cubicBezTo>
                  <a:lnTo>
                    <a:pt x="2878941" y="651686"/>
                  </a:lnTo>
                  <a:lnTo>
                    <a:pt x="2878941" y="651686"/>
                  </a:lnTo>
                  <a:lnTo>
                    <a:pt x="0" y="651686"/>
                  </a:lnTo>
                  <a:lnTo>
                    <a:pt x="0" y="651686"/>
                  </a:lnTo>
                  <a:lnTo>
                    <a:pt x="0" y="108636"/>
                  </a:lnTo>
                  <a:cubicBezTo>
                    <a:pt x="0" y="48638"/>
                    <a:pt x="48638" y="0"/>
                    <a:pt x="108636" y="0"/>
                  </a:cubicBezTo>
                  <a:close/>
                </a:path>
              </a:pathLst>
            </a:custGeom>
            <a:solidFill>
              <a:srgbClr val="1b5222"/>
            </a:solidFill>
            <a:ln w="2556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圓角化同側角落矩形 6"/>
            <p:cNvSpPr/>
            <p:nvPr/>
          </p:nvSpPr>
          <p:spPr>
            <a:xfrm>
              <a:off x="645840" y="735120"/>
              <a:ext cx="3242160" cy="825480"/>
            </a:xfrm>
            <a:prstGeom prst="rect">
              <a:avLst/>
            </a:prstGeom>
            <a:solidFill>
              <a:srgbClr val="582a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749"/>
                </a:spcAft>
                <a:tabLst>
                  <a:tab algn="l" pos="0"/>
                  <a:tab algn="l" pos="1778040"/>
                  <a:tab algn="l" pos="3556080"/>
                  <a:tab algn="l" pos="5334120"/>
                  <a:tab algn="l" pos="7112160"/>
                  <a:tab algn="l" pos="8889840"/>
                  <a:tab algn="l" pos="1066788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微軟正黑體"/>
                  <a:ea typeface="微軟正黑體"/>
                </a:rPr>
                <a:t>5.</a:t>
              </a:r>
              <a:r>
                <a:rPr b="1" lang="zh-TW" sz="4000" spc="-1" strike="noStrike">
                  <a:solidFill>
                    <a:srgbClr val="ffffff"/>
                  </a:solidFill>
                  <a:latin typeface="微軟正黑體"/>
                  <a:ea typeface="微軟正黑體"/>
                </a:rPr>
                <a:t>與電腦溝通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矩形 19"/>
          <p:cNvSpPr/>
          <p:nvPr/>
        </p:nvSpPr>
        <p:spPr>
          <a:xfrm>
            <a:off x="609480" y="1569960"/>
            <a:ext cx="821052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直線接點 18"/>
          <p:cNvSpPr/>
          <p:nvPr/>
        </p:nvSpPr>
        <p:spPr>
          <a:xfrm flipV="1">
            <a:off x="754200" y="1569600"/>
            <a:ext cx="7927920" cy="1800"/>
          </a:xfrm>
          <a:prstGeom prst="line">
            <a:avLst/>
          </a:prstGeom>
          <a:ln w="25560">
            <a:solidFill>
              <a:srgbClr val="3d6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1-5與電腦溝通.mp4" descr=""/>
          <p:cNvPicPr/>
          <p:nvPr/>
        </p:nvPicPr>
        <p:blipFill>
          <a:blip r:embed="rId1"/>
          <a:stretch/>
        </p:blipFill>
        <p:spPr>
          <a:xfrm>
            <a:off x="4718160" y="1989000"/>
            <a:ext cx="4101840" cy="3076560"/>
          </a:xfrm>
          <a:prstGeom prst="rect">
            <a:avLst/>
          </a:prstGeom>
          <a:ln w="0">
            <a:noFill/>
          </a:ln>
        </p:spPr>
      </p:pic>
      <p:sp>
        <p:nvSpPr>
          <p:cNvPr id="194" name="流程圖: 延遲 16">
            <a:hlinkClick r:id="rId2" action="ppaction://hlinksldjump"/>
          </p:cNvPr>
          <p:cNvSpPr/>
          <p:nvPr/>
        </p:nvSpPr>
        <p:spPr>
          <a:xfrm>
            <a:off x="4716360" y="5329080"/>
            <a:ext cx="2016360" cy="792360"/>
          </a:xfrm>
          <a:prstGeom prst="flowChartDelay">
            <a:avLst/>
          </a:prstGeom>
          <a:gradFill rotWithShape="0">
            <a:gsLst>
              <a:gs pos="0">
                <a:srgbClr val="d1403c"/>
              </a:gs>
              <a:gs pos="100000">
                <a:srgbClr val="ff9a99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回目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3" descr="E:\Maxine\圖片\教學影片-請點我.jpg"/>
          <p:cNvPicPr/>
          <p:nvPr/>
        </p:nvPicPr>
        <p:blipFill>
          <a:blip r:embed="rId3"/>
          <a:stretch/>
        </p:blipFill>
        <p:spPr>
          <a:xfrm>
            <a:off x="7721640" y="0"/>
            <a:ext cx="1146240" cy="1490760"/>
          </a:xfrm>
          <a:prstGeom prst="rect">
            <a:avLst/>
          </a:prstGeom>
          <a:ln w="0">
            <a:noFill/>
          </a:ln>
        </p:spPr>
      </p:pic>
      <p:sp>
        <p:nvSpPr>
          <p:cNvPr id="196" name="矩形 10"/>
          <p:cNvSpPr/>
          <p:nvPr/>
        </p:nvSpPr>
        <p:spPr>
          <a:xfrm>
            <a:off x="485640" y="1981080"/>
            <a:ext cx="4105440" cy="43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lvl="1" marL="457200" indent="-45720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連接到電腦</a:t>
            </a:r>
            <a:r>
              <a:rPr b="0" lang="zh-TW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可利用</a:t>
            </a:r>
            <a:r>
              <a:rPr b="0" lang="en-US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USB</a:t>
            </a:r>
            <a:r>
              <a:rPr b="0" lang="zh-TW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連接線，將電子書與電腦連接，亦即將電子書當作隨身碟使用，以存取電腦中的文件</a:t>
            </a:r>
            <a:r>
              <a:rPr b="0" lang="en-US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(pdf, txt, epub</a:t>
            </a:r>
            <a:r>
              <a:rPr b="0" lang="zh-TW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檔</a:t>
            </a:r>
            <a:r>
              <a:rPr b="0" lang="en-US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、音樂資料</a:t>
            </a:r>
            <a:r>
              <a:rPr b="0" lang="en-US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(mp3</a:t>
            </a:r>
            <a:r>
              <a:rPr b="0" lang="zh-TW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檔</a:t>
            </a:r>
            <a:r>
              <a:rPr b="0" lang="en-US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、檔案管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sus</dc:creator>
  <dc:description/>
  <dc:language>en-US</dc:language>
  <cp:lastModifiedBy>asus</cp:lastModifiedBy>
  <dcterms:modified xsi:type="dcterms:W3CDTF">2014-04-24T09:52:04Z</dcterms:modified>
  <cp:revision>149</cp:revision>
  <dc:subject/>
  <dc:title>靜思電子書 教學影片</dc:title>
</cp:coreProperties>
</file>