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360" cy="34293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標楷體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hape 9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hape 9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B54F-B03B-4BE9-8BED-FA00202CF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5872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D34A-3F7E-4474-B588-B892C598D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7DF98E-8FE2-47AF-8B16-014D62366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9D0439-5CF4-4F70-891A-AD60A2539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43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ADA4C5-0806-40BA-935A-812EFD070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15872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1E5E7E-EF65-45C8-A116-D7F3122C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415872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F9C50E-0886-4C7E-9408-4E767386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15872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5097AE-CFA9-4EFE-B736-EA14BAB0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415872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9CFB50-F014-44A9-B48B-3CF9FE984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415872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415872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272E79-416A-4F40-9BDC-72B813DA8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415872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415872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415872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2C9D47-B41D-44EF-8A45-F6998192B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5872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5872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2E2B-632C-4908-AAC7-1C1C3CDB2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5872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5872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5872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9668-6BF4-4C0A-AB0A-5DF73273F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EC9A0-7354-40CF-B58F-D036C80F4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62429-EC47-44D9-BCBF-989F9155C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D31C8-6C23-47F5-A783-DB8F5BC45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CCD1A-2128-4466-AA5D-1375510D7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29689-6BF8-411F-BAD3-ED0ADE60A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43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750E7-B07D-4AD1-911F-D0DCA699E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15872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B9928-BCC7-49D6-97CC-C00B97DF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D9CD-A996-4AA7-9DDC-151BA21B0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15872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0E48D-6A85-46FA-9DA8-3C936C02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15872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864C2-61A3-4CFA-AE20-F8BEB257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15872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F985D-C394-4EB6-A41C-E8EE9AFBC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15872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15872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8B9A0-BFBF-4470-A909-30241FBF0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15872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15872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15872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49316-B592-4E7C-A148-CC01648E8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E15B7-73B3-46A5-B75B-B61B80191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54960-69F8-4A16-B72D-A206151CC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F709B-2900-445B-A202-C1FD0B3E5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537D7-F105-4B0A-B57E-0600CCE64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503E4-15C1-45CA-811C-EF2C3461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65AB-A699-4154-B0EE-33161AD30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43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24288-F1A9-451D-B811-4F72DFE9D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15872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8A4C8-123A-493E-92A3-A27DA883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415872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92C35-72A5-4E23-9DF2-42AD23D0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5872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DF366-6056-4A51-851D-63D86C76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415872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16492-71BB-453C-87B2-DC2DD151E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15872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415872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A8B07-2A96-4A56-BDDE-F9EFB1724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415872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415872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415872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ECDD6-A0E1-4484-82AC-F7304038B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B51A4-52C2-4E51-9C19-2CFC48B5F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A7F30-6613-4888-99E7-344B6E97D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FE507-02C2-453A-9A7C-DCFCA13B6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B76F-DA75-417C-872C-0B2FCF669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4E480-2496-4391-A549-F6D1B40B3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7A78A-6263-4DDD-A1BE-5E6444916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43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17859-5D64-46B8-B9DC-3E3BF03AF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15872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BC344-2DDC-49F3-BAE9-71BC3484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415872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19C6C-3B42-4B69-A6C7-4E413D9E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5872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11891-F1D7-4D20-9949-F41D8901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415872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B46C8-2F01-4A55-803E-430C67614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15872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415872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859F4-472B-4B6D-902B-2CAFB5879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415872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415872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415872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A9C5D-088A-4087-952C-CE40EBC7E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6DEFD-75AD-435B-9028-ABE087341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29A4-E999-400C-9CDA-C4F673624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7C641-F478-4C66-9F2E-4450AEFCC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6A3E4-CEFB-4164-A8B4-8E16090FC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ADCEE-D62C-4026-AE63-82C4EC83C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8228D-8BB6-404E-9671-68D4D494E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43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40669-22F7-4181-B052-AD130F71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15872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62B8A-0B5E-4E9E-8EAF-D6F7B75B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415872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22E77-77F5-49FC-AB58-178A7274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15872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BECEF-52BE-43DA-AC6D-58E292DC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415872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51CC8-BBEC-4F9B-8746-F2FE3952C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15872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415872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ABEE8-B779-436E-8C16-15E451322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3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C672-6364-40D4-8A1F-E632B9DDA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415872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415872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415872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5F873-F930-4F22-ACA9-68D6B777B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D2DED-F51C-491F-81A4-A97B9C11E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EC604-4E58-4238-AFA5-6C2C1C2CE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3B32D-ED86-4B84-8712-7B1897017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BCAB7-887B-4F5F-A956-BC4792509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D2964-A080-4897-A3AB-1F6824D2E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43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7DD55-A834-4787-9B7B-55D98BF1F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15872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F3D9B-1797-4804-8B1F-B88D1C2B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415872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5F55C-C353-4333-A0E3-E6F38E46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15872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84144-DFB9-45AB-94A5-D33EEBC8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5872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0858-21BB-4871-ACAD-E6C22AD3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415872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AF3EC-819B-450F-9199-4E659CEFB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15872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415872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EB800-28AD-4BA6-9C95-DECF07173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415872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415872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415872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86F58-1FE3-4E7F-AAC2-5E4D47C9C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84F0E-9A4F-478C-9FB8-D9E94D9FC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BF6EC4-8CE9-4F20-81C4-D0E28AD2F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1F445-558D-402A-9BC7-D33EF710A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2F9BC-5AB9-48A2-A1E9-8032A4575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F0D951-9FB6-4140-92C7-71CC42473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43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2D4142-5605-4CE0-A8C1-55DB883B4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15872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3C956-56D1-4DB3-A5D8-62844359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5872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6DE1-2C66-4C25-806E-83E664D6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415872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07F419-B3AE-48B7-8487-47EC719C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15872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DFB38-3246-4B1E-A196-DA4B6586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415872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E2BDD3-0A8D-461E-B914-9228FF57D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15872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415872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55A82-9EF9-409D-BA16-2C9C11D99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415872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415872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415872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D98C55-B12A-4B0A-89E2-06D4D8090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4A9B57-F4E7-467E-B66F-0EF302B11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FCBA38-DC7A-42E0-A0F4-D46A21004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60FAE4-C75F-4FBB-BD22-DD8E86B9C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7A6359-2D0C-4FAD-80E2-5001D3FF6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762448-ABC0-46F4-8158-DFDB7115C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5872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66CC-592D-4F24-8B85-419A3C45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43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36DAD0-1ACA-49E2-A23F-E37C34E73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415872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03B9D6-9373-4DCD-8E7B-FE834C2E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415872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7D5396-094B-4FC3-94BD-9FA2DFEA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15872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A8882D-F792-4050-A2F9-87EE48C2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415872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BDA3CD-A2CB-4D33-8540-88B12DBAD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15872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415872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343E56-C659-42E2-9168-5B7352177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415872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415872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415872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DD45CE-CD06-43A9-9053-54D25D7A5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ABD4A6-AF23-40F4-845B-8D320D06A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F2A5C4-582D-4ACD-81A6-61318AB5B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1D3CB1-334A-4019-A8EC-7075B7505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標楷體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字方塊 6"/>
          <p:cNvSpPr/>
          <p:nvPr/>
        </p:nvSpPr>
        <p:spPr>
          <a:xfrm>
            <a:off x="8459640" y="4746600"/>
            <a:ext cx="684360" cy="206280"/>
          </a:xfrm>
          <a:prstGeom prst="rect">
            <a:avLst/>
          </a:prstGeom>
          <a:solidFill>
            <a:srgbClr val="2c62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標楷體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文字方塊 6"/>
          <p:cNvSpPr/>
          <p:nvPr/>
        </p:nvSpPr>
        <p:spPr>
          <a:xfrm>
            <a:off x="8532720" y="6678720"/>
            <a:ext cx="684360" cy="206280"/>
          </a:xfrm>
          <a:prstGeom prst="rect">
            <a:avLst/>
          </a:prstGeom>
          <a:solidFill>
            <a:srgbClr val="2c62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標楷體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文字方塊 6"/>
          <p:cNvSpPr/>
          <p:nvPr/>
        </p:nvSpPr>
        <p:spPr>
          <a:xfrm>
            <a:off x="8532720" y="6678720"/>
            <a:ext cx="684360" cy="206280"/>
          </a:xfrm>
          <a:prstGeom prst="rect">
            <a:avLst/>
          </a:prstGeom>
          <a:solidFill>
            <a:srgbClr val="2c62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標楷體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文字方塊 6"/>
          <p:cNvSpPr/>
          <p:nvPr/>
        </p:nvSpPr>
        <p:spPr>
          <a:xfrm>
            <a:off x="8532720" y="6678720"/>
            <a:ext cx="684360" cy="206280"/>
          </a:xfrm>
          <a:prstGeom prst="rect">
            <a:avLst/>
          </a:prstGeom>
          <a:solidFill>
            <a:srgbClr val="2c62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標楷體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文字方塊 6"/>
          <p:cNvSpPr/>
          <p:nvPr/>
        </p:nvSpPr>
        <p:spPr>
          <a:xfrm>
            <a:off x="8532720" y="6678720"/>
            <a:ext cx="684360" cy="206280"/>
          </a:xfrm>
          <a:prstGeom prst="rect">
            <a:avLst/>
          </a:prstGeom>
          <a:solidFill>
            <a:srgbClr val="2c62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標楷體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文字方塊 6"/>
          <p:cNvSpPr/>
          <p:nvPr/>
        </p:nvSpPr>
        <p:spPr>
          <a:xfrm>
            <a:off x="8532720" y="6678720"/>
            <a:ext cx="684360" cy="206280"/>
          </a:xfrm>
          <a:prstGeom prst="rect">
            <a:avLst/>
          </a:prstGeom>
          <a:solidFill>
            <a:srgbClr val="2c62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標楷體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文字方塊 6"/>
          <p:cNvSpPr/>
          <p:nvPr/>
        </p:nvSpPr>
        <p:spPr>
          <a:xfrm>
            <a:off x="8532720" y="6678720"/>
            <a:ext cx="684360" cy="206280"/>
          </a:xfrm>
          <a:prstGeom prst="rect">
            <a:avLst/>
          </a:prstGeom>
          <a:solidFill>
            <a:srgbClr val="2c62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標楷體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文字方塊 6"/>
          <p:cNvSpPr/>
          <p:nvPr/>
        </p:nvSpPr>
        <p:spPr>
          <a:xfrm>
            <a:off x="8532720" y="6678720"/>
            <a:ext cx="684360" cy="206280"/>
          </a:xfrm>
          <a:prstGeom prst="rect">
            <a:avLst/>
          </a:prstGeom>
          <a:solidFill>
            <a:srgbClr val="2c62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標楷體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" Target="slide3.xml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5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靜思電子書</a:t>
            </a:r>
            <a:br>
              <a:rPr sz="7200"/>
            </a:br>
            <a:r>
              <a:rPr b="1" lang="zh-TW" sz="4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第一代介面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【</a:t>
            </a:r>
            <a:r>
              <a:rPr b="1" lang="zh-TW" sz="4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初階學習</a:t>
            </a:r>
            <a:r>
              <a:rPr b="1" lang="en-US" sz="4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】</a:t>
            </a:r>
            <a:endParaRPr b="0" lang="en-US" sz="48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803840" y="5013000"/>
            <a:ext cx="4232160" cy="554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 algn="r"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標楷體"/>
              </a:rPr>
              <a:t>2014/04/22</a:t>
            </a:r>
            <a:endParaRPr b="0" lang="en-US" sz="2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86" name="Shape 86"/>
          <p:cNvSpPr/>
          <p:nvPr/>
        </p:nvSpPr>
        <p:spPr>
          <a:xfrm>
            <a:off x="3127320" y="6380280"/>
            <a:ext cx="16020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rmAutofit fontScale="38000"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999999"/>
                </a:solidFill>
                <a:latin typeface="Arial"/>
                <a:ea typeface="新細明體"/>
              </a:rPr>
              <a:t>http://goo.gl/4lE7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矩形 32"/>
          <p:cNvSpPr/>
          <p:nvPr/>
        </p:nvSpPr>
        <p:spPr>
          <a:xfrm>
            <a:off x="3594240" y="907920"/>
            <a:ext cx="517356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群組 25"/>
          <p:cNvGrpSpPr/>
          <p:nvPr/>
        </p:nvGrpSpPr>
        <p:grpSpPr>
          <a:xfrm>
            <a:off x="608040" y="690480"/>
            <a:ext cx="2832120" cy="866880"/>
            <a:chOff x="608040" y="690480"/>
            <a:chExt cx="2832120" cy="866880"/>
          </a:xfrm>
        </p:grpSpPr>
        <p:sp>
          <p:nvSpPr>
            <p:cNvPr id="451" name="圓角化同側角落矩形 30"/>
            <p:cNvSpPr/>
            <p:nvPr/>
          </p:nvSpPr>
          <p:spPr>
            <a:xfrm>
              <a:off x="608040" y="690480"/>
              <a:ext cx="2832120" cy="866880"/>
            </a:xfrm>
            <a:custGeom>
              <a:avLst/>
              <a:gdLst/>
              <a:ahLst/>
              <a:rect l="l" t="t" r="r" b="b"/>
              <a:pathLst>
                <a:path w="2880654" h="651208">
                  <a:moveTo>
                    <a:pt x="108556" y="0"/>
                  </a:moveTo>
                  <a:lnTo>
                    <a:pt x="2772098" y="0"/>
                  </a:lnTo>
                  <a:cubicBezTo>
                    <a:pt x="2832052" y="0"/>
                    <a:pt x="2880654" y="48602"/>
                    <a:pt x="2880654" y="108556"/>
                  </a:cubicBezTo>
                  <a:lnTo>
                    <a:pt x="2880654" y="651208"/>
                  </a:lnTo>
                  <a:lnTo>
                    <a:pt x="2880654" y="651208"/>
                  </a:lnTo>
                  <a:lnTo>
                    <a:pt x="0" y="651208"/>
                  </a:lnTo>
                  <a:lnTo>
                    <a:pt x="0" y="651208"/>
                  </a:lnTo>
                  <a:lnTo>
                    <a:pt x="0" y="108556"/>
                  </a:lnTo>
                  <a:cubicBezTo>
                    <a:pt x="0" y="48602"/>
                    <a:pt x="48602" y="0"/>
                    <a:pt x="108556" y="0"/>
                  </a:cubicBez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圓角化同側角落矩形 6"/>
            <p:cNvSpPr/>
            <p:nvPr/>
          </p:nvSpPr>
          <p:spPr>
            <a:xfrm>
              <a:off x="639720" y="733320"/>
              <a:ext cx="2768760" cy="824040"/>
            </a:xfrm>
            <a:prstGeom prst="rect">
              <a:avLst/>
            </a:prstGeom>
            <a:solidFill>
              <a:srgbClr val="3760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749"/>
                </a:spcAft>
                <a:tabLst>
                  <a:tab algn="l" pos="0"/>
                  <a:tab algn="l" pos="1778040"/>
                  <a:tab algn="l" pos="3556080"/>
                  <a:tab algn="l" pos="5334120"/>
                  <a:tab algn="l" pos="7112160"/>
                  <a:tab algn="l" pos="8889840"/>
                  <a:tab algn="l" pos="1066788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微軟正黑體"/>
                  <a:ea typeface="微軟正黑體"/>
                </a:rPr>
                <a:t>7.</a:t>
              </a:r>
              <a:r>
                <a:rPr b="1" lang="zh-TW" sz="4000" spc="-1" strike="noStrike">
                  <a:solidFill>
                    <a:srgbClr val="ffffff"/>
                  </a:solidFill>
                  <a:latin typeface="微軟正黑體"/>
                  <a:ea typeface="微軟正黑體"/>
                </a:rPr>
                <a:t>應用程式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矩形 28"/>
          <p:cNvSpPr/>
          <p:nvPr/>
        </p:nvSpPr>
        <p:spPr>
          <a:xfrm>
            <a:off x="608040" y="1568520"/>
            <a:ext cx="8211960" cy="13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矩形 29"/>
          <p:cNvSpPr/>
          <p:nvPr/>
        </p:nvSpPr>
        <p:spPr>
          <a:xfrm>
            <a:off x="468360" y="1978200"/>
            <a:ext cx="410364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lvl="1" marL="228600" indent="-22860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微軟正黑體"/>
              <a:buChar char="•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慈濟湧泉</a:t>
            </a:r>
            <a:r>
              <a:rPr b="0" lang="zh-TW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：可下載以下的每日精進資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.</a:t>
            </a:r>
            <a:r>
              <a:rPr b="0" lang="zh-TW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大愛台靜思晨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2.</a:t>
            </a:r>
            <a:r>
              <a:rPr b="0" lang="zh-TW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舊法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3.</a:t>
            </a:r>
            <a:r>
              <a:rPr b="0" lang="zh-TW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薰法香筆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4.</a:t>
            </a:r>
            <a:r>
              <a:rPr b="0" lang="zh-TW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菩薩廣行無量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微軟正黑體"/>
              <a:buChar char="•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音樂播放器</a:t>
            </a:r>
            <a:r>
              <a:rPr b="0" lang="zh-TW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微軟正黑體"/>
              <a:buChar char="•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檔案管理員</a:t>
            </a:r>
            <a:r>
              <a:rPr b="0" lang="zh-TW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：檔案儲存與分類管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直線接點 27"/>
          <p:cNvSpPr/>
          <p:nvPr/>
        </p:nvSpPr>
        <p:spPr>
          <a:xfrm flipV="1">
            <a:off x="752400" y="1568520"/>
            <a:ext cx="7929720" cy="1440"/>
          </a:xfrm>
          <a:prstGeom prst="line">
            <a:avLst/>
          </a:prstGeom>
          <a:ln w="25560">
            <a:solidFill>
              <a:srgbClr val="3d6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3" descr="E:\Maxine\圖片\教學影片-請點我.jpg"/>
          <p:cNvPicPr/>
          <p:nvPr/>
        </p:nvPicPr>
        <p:blipFill>
          <a:blip r:embed="rId1"/>
          <a:stretch/>
        </p:blipFill>
        <p:spPr>
          <a:xfrm>
            <a:off x="7380360" y="11160"/>
            <a:ext cx="1146240" cy="1490760"/>
          </a:xfrm>
          <a:prstGeom prst="rect">
            <a:avLst/>
          </a:prstGeom>
          <a:ln w="0">
            <a:noFill/>
          </a:ln>
        </p:spPr>
      </p:pic>
      <p:sp>
        <p:nvSpPr>
          <p:cNvPr id="457" name="流程圖: 延遲 25"/>
          <p:cNvSpPr/>
          <p:nvPr/>
        </p:nvSpPr>
        <p:spPr>
          <a:xfrm>
            <a:off x="4718160" y="5445000"/>
            <a:ext cx="3093840" cy="1214640"/>
          </a:xfrm>
          <a:prstGeom prst="flowChartDelay">
            <a:avLst/>
          </a:prstGeom>
          <a:gradFill rotWithShape="0">
            <a:gsLst>
              <a:gs pos="0">
                <a:srgbClr val="d1403c"/>
              </a:gs>
              <a:gs pos="100000">
                <a:srgbClr val="ff9a99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恭喜您！     學會電子書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07-應用程式.mp4" descr=""/>
          <p:cNvPicPr/>
          <p:nvPr/>
        </p:nvPicPr>
        <p:blipFill>
          <a:blip r:embed="rId2"/>
          <a:stretch/>
        </p:blipFill>
        <p:spPr>
          <a:xfrm>
            <a:off x="4572000" y="1957320"/>
            <a:ext cx="4363920" cy="32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458"/>
                    </p:tgtEl>
                  </p:cond>
                </p:stCondLst>
                <p:childTnLst>
                  <p:par>
                    <p:cTn id="39" nodeType="clickEffect" fill="hold">
                      <p:stCondLst>
                        <p:cond evt="onClick">
                          <p:tgtEl>
                            <p:spTgt spid="458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2" dur="1" fill="hold"/>
                                        <p:tgtEl>
                                          <p:spTgt spid="4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Shape 135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0" name="副標題 2"/>
          <p:cNvSpPr/>
          <p:nvPr/>
        </p:nvSpPr>
        <p:spPr>
          <a:xfrm>
            <a:off x="1187280" y="4410000"/>
            <a:ext cx="68724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99"/>
                </a:solidFill>
                <a:latin typeface="標楷體"/>
                <a:ea typeface="標楷體"/>
              </a:rPr>
              <a:t>感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中區電子書種子團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協助製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說  明</a:t>
            </a: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140000" y="1319040"/>
            <a:ext cx="4608360" cy="5096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04920" indent="0"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</a:rPr>
              <a:t>本教學資源，以教學影片為主，以下的每個學習單元，都會出現左圖的電子書公仔引導教學。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marL="304920" indent="0"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0000"/>
                </a:solidFill>
                <a:latin typeface="標楷體"/>
              </a:rPr>
              <a:t>請以「投影片放映」模式播放，影片連結才能使用。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89" name="Shape 86"/>
          <p:cNvSpPr/>
          <p:nvPr/>
        </p:nvSpPr>
        <p:spPr>
          <a:xfrm>
            <a:off x="3127320" y="6380280"/>
            <a:ext cx="16020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rmAutofit fontScale="38000"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999999"/>
                </a:solidFill>
                <a:latin typeface="Arial"/>
                <a:ea typeface="新細明體"/>
              </a:rPr>
              <a:t>http://goo.gl/4lE7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3" descr="E:\Maxine\圖片\教學影片-請點我.jpg"/>
          <p:cNvPicPr/>
          <p:nvPr/>
        </p:nvPicPr>
        <p:blipFill>
          <a:blip r:embed="rId1"/>
          <a:stretch/>
        </p:blipFill>
        <p:spPr>
          <a:xfrm>
            <a:off x="395280" y="1268280"/>
            <a:ext cx="3673440" cy="477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資料庫圖表 1" descr=""/>
          <p:cNvPicPr/>
          <p:nvPr/>
        </p:nvPicPr>
        <p:blipFill>
          <a:blip r:embed="rId1"/>
          <a:stretch/>
        </p:blipFill>
        <p:spPr>
          <a:xfrm>
            <a:off x="1835280" y="324000"/>
            <a:ext cx="6095880" cy="6570360"/>
          </a:xfrm>
          <a:prstGeom prst="rect">
            <a:avLst/>
          </a:prstGeom>
          <a:ln w="0">
            <a:noFill/>
          </a:ln>
        </p:spPr>
      </p:pic>
      <p:sp>
        <p:nvSpPr>
          <p:cNvPr id="392" name="文字方塊 6"/>
          <p:cNvSpPr/>
          <p:nvPr/>
        </p:nvSpPr>
        <p:spPr>
          <a:xfrm>
            <a:off x="987480" y="1431720"/>
            <a:ext cx="1003320" cy="38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262626"/>
                </a:solidFill>
                <a:latin typeface="微軟正黑體"/>
                <a:ea typeface="微軟正黑體"/>
              </a:rPr>
              <a:t>學習目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矩形 14"/>
          <p:cNvSpPr/>
          <p:nvPr/>
        </p:nvSpPr>
        <p:spPr>
          <a:xfrm>
            <a:off x="3575160" y="906480"/>
            <a:ext cx="514188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群組 8"/>
          <p:cNvGrpSpPr/>
          <p:nvPr/>
        </p:nvGrpSpPr>
        <p:grpSpPr>
          <a:xfrm>
            <a:off x="608040" y="692280"/>
            <a:ext cx="2813040" cy="865080"/>
            <a:chOff x="608040" y="692280"/>
            <a:chExt cx="2813040" cy="865080"/>
          </a:xfrm>
        </p:grpSpPr>
        <p:sp>
          <p:nvSpPr>
            <p:cNvPr id="395" name="圓角化同側角落矩形 12"/>
            <p:cNvSpPr/>
            <p:nvPr/>
          </p:nvSpPr>
          <p:spPr>
            <a:xfrm>
              <a:off x="608040" y="692280"/>
              <a:ext cx="2813040" cy="865080"/>
            </a:xfrm>
            <a:custGeom>
              <a:avLst/>
              <a:gdLst/>
              <a:ahLst/>
              <a:rect l="l" t="t" r="r" b="b"/>
              <a:pathLst>
                <a:path w="2880320" h="651686">
                  <a:moveTo>
                    <a:pt x="108636" y="0"/>
                  </a:moveTo>
                  <a:lnTo>
                    <a:pt x="2771684" y="0"/>
                  </a:lnTo>
                  <a:cubicBezTo>
                    <a:pt x="2831682" y="0"/>
                    <a:pt x="2880320" y="48638"/>
                    <a:pt x="2880320" y="108636"/>
                  </a:cubicBezTo>
                  <a:lnTo>
                    <a:pt x="2880320" y="651686"/>
                  </a:lnTo>
                  <a:lnTo>
                    <a:pt x="2880320" y="651686"/>
                  </a:lnTo>
                  <a:lnTo>
                    <a:pt x="0" y="651686"/>
                  </a:lnTo>
                  <a:lnTo>
                    <a:pt x="0" y="651686"/>
                  </a:lnTo>
                  <a:lnTo>
                    <a:pt x="0" y="108636"/>
                  </a:lnTo>
                  <a:cubicBezTo>
                    <a:pt x="0" y="48638"/>
                    <a:pt x="48638" y="0"/>
                    <a:pt x="108636" y="0"/>
                  </a:cubicBez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圓角化同側角落矩形 6"/>
            <p:cNvSpPr/>
            <p:nvPr/>
          </p:nvSpPr>
          <p:spPr>
            <a:xfrm>
              <a:off x="639720" y="735120"/>
              <a:ext cx="2749680" cy="822240"/>
            </a:xfrm>
            <a:prstGeom prst="rect">
              <a:avLst/>
            </a:prstGeom>
            <a:solidFill>
              <a:srgbClr val="3760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749"/>
                </a:spcAft>
                <a:tabLst>
                  <a:tab algn="l" pos="0"/>
                  <a:tab algn="l" pos="1778040"/>
                  <a:tab algn="l" pos="3556080"/>
                  <a:tab algn="l" pos="5334120"/>
                  <a:tab algn="l" pos="7112160"/>
                  <a:tab algn="l" pos="8889840"/>
                  <a:tab algn="l" pos="1066788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微軟正黑體"/>
                  <a:ea typeface="微軟正黑體"/>
                </a:rPr>
                <a:t>1.</a:t>
              </a:r>
              <a:r>
                <a:rPr b="1" lang="zh-TW" sz="4000" spc="-1" strike="noStrike">
                  <a:solidFill>
                    <a:srgbClr val="ffffff"/>
                  </a:solidFill>
                  <a:latin typeface="微軟正黑體"/>
                  <a:ea typeface="微軟正黑體"/>
                </a:rPr>
                <a:t>硬體介紹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矩形 10"/>
          <p:cNvSpPr/>
          <p:nvPr/>
        </p:nvSpPr>
        <p:spPr>
          <a:xfrm>
            <a:off x="608040" y="1690560"/>
            <a:ext cx="815976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矩形 11"/>
          <p:cNvSpPr/>
          <p:nvPr/>
        </p:nvSpPr>
        <p:spPr>
          <a:xfrm>
            <a:off x="468360" y="1990800"/>
            <a:ext cx="3819600" cy="38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lvl="1" marL="228600" indent="-22860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微軟正黑體"/>
              <a:buChar char="•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介紹電子書面板外觀與按鍵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直線接點 19"/>
          <p:cNvSpPr/>
          <p:nvPr/>
        </p:nvSpPr>
        <p:spPr>
          <a:xfrm>
            <a:off x="750960" y="1568520"/>
            <a:ext cx="7878600" cy="0"/>
          </a:xfrm>
          <a:prstGeom prst="line">
            <a:avLst/>
          </a:prstGeom>
          <a:ln w="25560">
            <a:solidFill>
              <a:srgbClr val="3d6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3" descr="E:\Maxine\圖片\教學影片-請點我.jpg"/>
          <p:cNvPicPr/>
          <p:nvPr/>
        </p:nvPicPr>
        <p:blipFill>
          <a:blip r:embed="rId1"/>
          <a:stretch/>
        </p:blipFill>
        <p:spPr>
          <a:xfrm>
            <a:off x="7236000" y="30240"/>
            <a:ext cx="1145880" cy="1492200"/>
          </a:xfrm>
          <a:prstGeom prst="rect">
            <a:avLst/>
          </a:prstGeom>
          <a:ln w="0">
            <a:noFill/>
          </a:ln>
        </p:spPr>
      </p:pic>
      <p:pic>
        <p:nvPicPr>
          <p:cNvPr id="401" name="01-硬體介紹.mp4" descr=""/>
          <p:cNvPicPr/>
          <p:nvPr/>
        </p:nvPicPr>
        <p:blipFill>
          <a:blip r:embed="rId2"/>
          <a:stretch/>
        </p:blipFill>
        <p:spPr>
          <a:xfrm>
            <a:off x="4610160" y="1990800"/>
            <a:ext cx="4222800" cy="3166920"/>
          </a:xfrm>
          <a:prstGeom prst="rect">
            <a:avLst/>
          </a:prstGeom>
          <a:ln w="0">
            <a:noFill/>
          </a:ln>
        </p:spPr>
      </p:pic>
      <p:sp>
        <p:nvSpPr>
          <p:cNvPr id="402" name="流程圖: 延遲 2">
            <a:hlinkClick r:id="rId3" action="ppaction://hlinksldjump"/>
          </p:cNvPr>
          <p:cNvSpPr/>
          <p:nvPr/>
        </p:nvSpPr>
        <p:spPr>
          <a:xfrm>
            <a:off x="4575240" y="5373720"/>
            <a:ext cx="2016000" cy="792000"/>
          </a:xfrm>
          <a:prstGeom prst="flowChartDelay">
            <a:avLst/>
          </a:prstGeom>
          <a:gradFill rotWithShape="0">
            <a:gsLst>
              <a:gs pos="0">
                <a:srgbClr val="d1403c"/>
              </a:gs>
              <a:gs pos="100000">
                <a:srgbClr val="ff9a99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回目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01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矩形 31"/>
          <p:cNvSpPr/>
          <p:nvPr/>
        </p:nvSpPr>
        <p:spPr>
          <a:xfrm>
            <a:off x="3645000" y="944640"/>
            <a:ext cx="51958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群組 24"/>
          <p:cNvGrpSpPr/>
          <p:nvPr/>
        </p:nvGrpSpPr>
        <p:grpSpPr>
          <a:xfrm>
            <a:off x="644400" y="693720"/>
            <a:ext cx="2845080" cy="901800"/>
            <a:chOff x="644400" y="693720"/>
            <a:chExt cx="2845080" cy="901800"/>
          </a:xfrm>
        </p:grpSpPr>
        <p:sp>
          <p:nvSpPr>
            <p:cNvPr id="405" name="圓角化同側角落矩形 29"/>
            <p:cNvSpPr/>
            <p:nvPr/>
          </p:nvSpPr>
          <p:spPr>
            <a:xfrm>
              <a:off x="644400" y="693720"/>
              <a:ext cx="2845080" cy="901800"/>
            </a:xfrm>
            <a:custGeom>
              <a:avLst/>
              <a:gdLst/>
              <a:ahLst/>
              <a:rect l="l" t="t" r="r" b="b"/>
              <a:pathLst>
                <a:path w="2880320" h="651686">
                  <a:moveTo>
                    <a:pt x="108636" y="0"/>
                  </a:moveTo>
                  <a:lnTo>
                    <a:pt x="2771684" y="0"/>
                  </a:lnTo>
                  <a:cubicBezTo>
                    <a:pt x="2831682" y="0"/>
                    <a:pt x="2880320" y="48638"/>
                    <a:pt x="2880320" y="108636"/>
                  </a:cubicBezTo>
                  <a:lnTo>
                    <a:pt x="2880320" y="651686"/>
                  </a:lnTo>
                  <a:lnTo>
                    <a:pt x="2880320" y="651686"/>
                  </a:lnTo>
                  <a:lnTo>
                    <a:pt x="0" y="651686"/>
                  </a:lnTo>
                  <a:lnTo>
                    <a:pt x="0" y="651686"/>
                  </a:lnTo>
                  <a:lnTo>
                    <a:pt x="0" y="108636"/>
                  </a:lnTo>
                  <a:cubicBezTo>
                    <a:pt x="0" y="48638"/>
                    <a:pt x="48638" y="0"/>
                    <a:pt x="108636" y="0"/>
                  </a:cubicBez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圓角化同側角落矩形 6"/>
            <p:cNvSpPr/>
            <p:nvPr/>
          </p:nvSpPr>
          <p:spPr>
            <a:xfrm>
              <a:off x="676080" y="738000"/>
              <a:ext cx="2781720" cy="857520"/>
            </a:xfrm>
            <a:prstGeom prst="rect">
              <a:avLst/>
            </a:prstGeom>
            <a:solidFill>
              <a:srgbClr val="3760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749"/>
                </a:spcAft>
                <a:tabLst>
                  <a:tab algn="l" pos="0"/>
                  <a:tab algn="l" pos="1778040"/>
                  <a:tab algn="l" pos="3556080"/>
                  <a:tab algn="l" pos="5334120"/>
                  <a:tab algn="l" pos="7112160"/>
                  <a:tab algn="l" pos="8889840"/>
                  <a:tab algn="l" pos="1066788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微軟正黑體"/>
                  <a:ea typeface="微軟正黑體"/>
                </a:rPr>
                <a:t>2.</a:t>
              </a:r>
              <a:r>
                <a:rPr b="1" lang="zh-TW" sz="4000" spc="-1" strike="noStrike">
                  <a:solidFill>
                    <a:srgbClr val="ffffff"/>
                  </a:solidFill>
                  <a:latin typeface="微軟正黑體"/>
                  <a:ea typeface="微軟正黑體"/>
                </a:rPr>
                <a:t>靜思法海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矩形 27"/>
          <p:cNvSpPr/>
          <p:nvPr/>
        </p:nvSpPr>
        <p:spPr>
          <a:xfrm>
            <a:off x="644400" y="1720800"/>
            <a:ext cx="824868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矩形 28"/>
          <p:cNvSpPr/>
          <p:nvPr/>
        </p:nvSpPr>
        <p:spPr>
          <a:xfrm>
            <a:off x="468360" y="1982880"/>
            <a:ext cx="3959280" cy="39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lvl="1" marL="228600" indent="-22860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微軟正黑體"/>
              <a:buChar char="•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可下載慈濟月刊與會員分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微軟正黑體"/>
              <a:buChar char="•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可下載有價請購書籍，如：衲履足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微軟正黑體"/>
              <a:buChar char="•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可下載免費結緣書籍，如：</a:t>
            </a:r>
            <a:r>
              <a:rPr b="0" lang="en-US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梵唄共修、志業新知、慈濟期刊、絕版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直線接點 26"/>
          <p:cNvSpPr/>
          <p:nvPr/>
        </p:nvSpPr>
        <p:spPr>
          <a:xfrm flipV="1">
            <a:off x="789120" y="1604520"/>
            <a:ext cx="7964280" cy="1800"/>
          </a:xfrm>
          <a:prstGeom prst="line">
            <a:avLst/>
          </a:prstGeom>
          <a:ln w="25560">
            <a:solidFill>
              <a:srgbClr val="3d6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3" descr="E:\Maxine\圖片\教學影片-請點我.jpg"/>
          <p:cNvPicPr/>
          <p:nvPr/>
        </p:nvPicPr>
        <p:blipFill>
          <a:blip r:embed="rId1"/>
          <a:stretch/>
        </p:blipFill>
        <p:spPr>
          <a:xfrm>
            <a:off x="7380360" y="27000"/>
            <a:ext cx="1147680" cy="1490760"/>
          </a:xfrm>
          <a:prstGeom prst="rect">
            <a:avLst/>
          </a:prstGeom>
          <a:ln w="0">
            <a:noFill/>
          </a:ln>
        </p:spPr>
      </p:pic>
      <p:pic>
        <p:nvPicPr>
          <p:cNvPr id="411" name="03-靜思法海.mp4" descr=""/>
          <p:cNvPicPr/>
          <p:nvPr/>
        </p:nvPicPr>
        <p:blipFill>
          <a:blip r:embed="rId2"/>
          <a:stretch/>
        </p:blipFill>
        <p:spPr>
          <a:xfrm>
            <a:off x="4572000" y="1990800"/>
            <a:ext cx="4319640" cy="3238560"/>
          </a:xfrm>
          <a:prstGeom prst="rect">
            <a:avLst/>
          </a:prstGeom>
          <a:ln w="0">
            <a:noFill/>
          </a:ln>
        </p:spPr>
      </p:pic>
      <p:sp>
        <p:nvSpPr>
          <p:cNvPr id="412" name="流程圖: 延遲 33"/>
          <p:cNvSpPr/>
          <p:nvPr/>
        </p:nvSpPr>
        <p:spPr>
          <a:xfrm>
            <a:off x="4591080" y="5373720"/>
            <a:ext cx="2016000" cy="792000"/>
          </a:xfrm>
          <a:prstGeom prst="flowChartDelay">
            <a:avLst/>
          </a:prstGeom>
          <a:gradFill rotWithShape="0">
            <a:gsLst>
              <a:gs pos="0">
                <a:srgbClr val="d1403c"/>
              </a:gs>
              <a:gs pos="100000">
                <a:srgbClr val="ff9a99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回目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11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411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4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群組 36"/>
          <p:cNvGrpSpPr/>
          <p:nvPr/>
        </p:nvGrpSpPr>
        <p:grpSpPr>
          <a:xfrm>
            <a:off x="611280" y="692280"/>
            <a:ext cx="2832120" cy="868320"/>
            <a:chOff x="611280" y="692280"/>
            <a:chExt cx="2832120" cy="868320"/>
          </a:xfrm>
        </p:grpSpPr>
        <p:sp>
          <p:nvSpPr>
            <p:cNvPr id="414" name="圓角化同側角落矩形 41"/>
            <p:cNvSpPr/>
            <p:nvPr/>
          </p:nvSpPr>
          <p:spPr>
            <a:xfrm>
              <a:off x="611280" y="692280"/>
              <a:ext cx="2832120" cy="868320"/>
            </a:xfrm>
            <a:custGeom>
              <a:avLst/>
              <a:gdLst/>
              <a:ahLst/>
              <a:rect l="l" t="t" r="r" b="b"/>
              <a:pathLst>
                <a:path w="2880320" h="651686">
                  <a:moveTo>
                    <a:pt x="108636" y="0"/>
                  </a:moveTo>
                  <a:lnTo>
                    <a:pt x="2771684" y="0"/>
                  </a:lnTo>
                  <a:cubicBezTo>
                    <a:pt x="2831682" y="0"/>
                    <a:pt x="2880320" y="48638"/>
                    <a:pt x="2880320" y="108636"/>
                  </a:cubicBezTo>
                  <a:lnTo>
                    <a:pt x="2880320" y="651686"/>
                  </a:lnTo>
                  <a:lnTo>
                    <a:pt x="2880320" y="651686"/>
                  </a:lnTo>
                  <a:lnTo>
                    <a:pt x="0" y="651686"/>
                  </a:lnTo>
                  <a:lnTo>
                    <a:pt x="0" y="651686"/>
                  </a:lnTo>
                  <a:lnTo>
                    <a:pt x="0" y="108636"/>
                  </a:lnTo>
                  <a:cubicBezTo>
                    <a:pt x="0" y="48638"/>
                    <a:pt x="48638" y="0"/>
                    <a:pt x="108636" y="0"/>
                  </a:cubicBez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圓角化同側角落矩形 6"/>
            <p:cNvSpPr/>
            <p:nvPr/>
          </p:nvSpPr>
          <p:spPr>
            <a:xfrm>
              <a:off x="642960" y="735120"/>
              <a:ext cx="2768760" cy="825480"/>
            </a:xfrm>
            <a:prstGeom prst="rect">
              <a:avLst/>
            </a:prstGeom>
            <a:solidFill>
              <a:srgbClr val="3760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749"/>
                </a:spcAft>
                <a:tabLst>
                  <a:tab algn="l" pos="0"/>
                  <a:tab algn="l" pos="1778040"/>
                  <a:tab algn="l" pos="3556080"/>
                  <a:tab algn="l" pos="5334120"/>
                  <a:tab algn="l" pos="7112160"/>
                  <a:tab algn="l" pos="8889840"/>
                  <a:tab algn="l" pos="1066788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微軟正黑體"/>
                  <a:ea typeface="微軟正黑體"/>
                </a:rPr>
                <a:t>3.</a:t>
              </a:r>
              <a:r>
                <a:rPr b="1" lang="zh-TW" sz="4000" spc="-1" strike="noStrike">
                  <a:solidFill>
                    <a:srgbClr val="ffffff"/>
                  </a:solidFill>
                  <a:latin typeface="微軟正黑體"/>
                  <a:ea typeface="微軟正黑體"/>
                </a:rPr>
                <a:t>閱讀功能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矩形 39"/>
          <p:cNvSpPr/>
          <p:nvPr/>
        </p:nvSpPr>
        <p:spPr>
          <a:xfrm>
            <a:off x="611280" y="1569960"/>
            <a:ext cx="821196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矩形 40"/>
          <p:cNvSpPr/>
          <p:nvPr/>
        </p:nvSpPr>
        <p:spPr>
          <a:xfrm>
            <a:off x="468360" y="1844640"/>
            <a:ext cx="4103640" cy="49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lvl="1" marL="228600" indent="-22860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微軟正黑體"/>
              <a:buChar char="•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書籍翻頁與跳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微軟正黑體"/>
              <a:buChar char="•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畫閱讀重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微軟正黑體"/>
              <a:buChar char="•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朗讀書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微軟正黑體"/>
              <a:buChar char="•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書籍目錄查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微軟正黑體"/>
              <a:buChar char="•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字體大小縮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微軟正黑體"/>
              <a:buChar char="•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標籤註記：閱讀時，重點段落加入個人心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微軟正黑體"/>
              <a:buChar char="•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書籍翻轉：可直式或橫式閱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直線接點 38"/>
          <p:cNvSpPr/>
          <p:nvPr/>
        </p:nvSpPr>
        <p:spPr>
          <a:xfrm flipV="1">
            <a:off x="755640" y="1569600"/>
            <a:ext cx="7929720" cy="1800"/>
          </a:xfrm>
          <a:prstGeom prst="line">
            <a:avLst/>
          </a:prstGeom>
          <a:ln w="25560">
            <a:solidFill>
              <a:srgbClr val="3d6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04-2閱讀功能.mp4" descr=""/>
          <p:cNvPicPr/>
          <p:nvPr/>
        </p:nvPicPr>
        <p:blipFill>
          <a:blip r:embed="rId1"/>
          <a:stretch/>
        </p:blipFill>
        <p:spPr>
          <a:xfrm>
            <a:off x="4641840" y="1989000"/>
            <a:ext cx="4251240" cy="3189600"/>
          </a:xfrm>
          <a:prstGeom prst="rect">
            <a:avLst/>
          </a:prstGeom>
          <a:ln w="0">
            <a:noFill/>
          </a:ln>
        </p:spPr>
      </p:pic>
      <p:sp>
        <p:nvSpPr>
          <p:cNvPr id="420" name="流程圖: 延遲 15"/>
          <p:cNvSpPr/>
          <p:nvPr/>
        </p:nvSpPr>
        <p:spPr>
          <a:xfrm>
            <a:off x="4641840" y="5373720"/>
            <a:ext cx="2017800" cy="792000"/>
          </a:xfrm>
          <a:prstGeom prst="flowChartDelay">
            <a:avLst/>
          </a:prstGeom>
          <a:gradFill rotWithShape="0">
            <a:gsLst>
              <a:gs pos="0">
                <a:srgbClr val="d1403c"/>
              </a:gs>
              <a:gs pos="100000">
                <a:srgbClr val="ff9a99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回目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3" descr="E:\Maxine\圖片\教學影片-請點我.jpg"/>
          <p:cNvPicPr/>
          <p:nvPr/>
        </p:nvPicPr>
        <p:blipFill>
          <a:blip r:embed="rId2"/>
          <a:stretch/>
        </p:blipFill>
        <p:spPr>
          <a:xfrm>
            <a:off x="7380360" y="27000"/>
            <a:ext cx="1147680" cy="14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419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419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4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2" name="群組 36"/>
          <p:cNvGrpSpPr/>
          <p:nvPr/>
        </p:nvGrpSpPr>
        <p:grpSpPr>
          <a:xfrm>
            <a:off x="611280" y="674640"/>
            <a:ext cx="2832120" cy="866880"/>
            <a:chOff x="611280" y="674640"/>
            <a:chExt cx="2832120" cy="866880"/>
          </a:xfrm>
        </p:grpSpPr>
        <p:sp>
          <p:nvSpPr>
            <p:cNvPr id="423" name="圓角化同側角落矩形 41"/>
            <p:cNvSpPr/>
            <p:nvPr/>
          </p:nvSpPr>
          <p:spPr>
            <a:xfrm>
              <a:off x="611280" y="674640"/>
              <a:ext cx="2832120" cy="866880"/>
            </a:xfrm>
            <a:custGeom>
              <a:avLst/>
              <a:gdLst/>
              <a:ahLst/>
              <a:rect l="l" t="t" r="r" b="b"/>
              <a:pathLst>
                <a:path w="2880320" h="651686">
                  <a:moveTo>
                    <a:pt x="108636" y="0"/>
                  </a:moveTo>
                  <a:lnTo>
                    <a:pt x="2771684" y="0"/>
                  </a:lnTo>
                  <a:cubicBezTo>
                    <a:pt x="2831682" y="0"/>
                    <a:pt x="2880320" y="48638"/>
                    <a:pt x="2880320" y="108636"/>
                  </a:cubicBezTo>
                  <a:lnTo>
                    <a:pt x="2880320" y="651686"/>
                  </a:lnTo>
                  <a:lnTo>
                    <a:pt x="2880320" y="651686"/>
                  </a:lnTo>
                  <a:lnTo>
                    <a:pt x="0" y="651686"/>
                  </a:lnTo>
                  <a:lnTo>
                    <a:pt x="0" y="651686"/>
                  </a:lnTo>
                  <a:lnTo>
                    <a:pt x="0" y="108636"/>
                  </a:lnTo>
                  <a:cubicBezTo>
                    <a:pt x="0" y="48638"/>
                    <a:pt x="48638" y="0"/>
                    <a:pt x="108636" y="0"/>
                  </a:cubicBez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圓角化同側角落矩形 6"/>
            <p:cNvSpPr/>
            <p:nvPr/>
          </p:nvSpPr>
          <p:spPr>
            <a:xfrm>
              <a:off x="642960" y="717480"/>
              <a:ext cx="2768760" cy="824040"/>
            </a:xfrm>
            <a:prstGeom prst="rect">
              <a:avLst/>
            </a:prstGeom>
            <a:solidFill>
              <a:srgbClr val="3760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749"/>
                </a:spcAft>
                <a:tabLst>
                  <a:tab algn="l" pos="0"/>
                  <a:tab algn="l" pos="1778040"/>
                  <a:tab algn="l" pos="3556080"/>
                  <a:tab algn="l" pos="5334120"/>
                  <a:tab algn="l" pos="7112160"/>
                  <a:tab algn="l" pos="8889840"/>
                  <a:tab algn="l" pos="1066788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微軟正黑體"/>
                  <a:ea typeface="微軟正黑體"/>
                </a:rPr>
                <a:t>4.</a:t>
              </a:r>
              <a:r>
                <a:rPr b="1" lang="zh-TW" sz="4000" spc="-1" strike="noStrike">
                  <a:solidFill>
                    <a:srgbClr val="ffffff"/>
                  </a:solidFill>
                  <a:latin typeface="微軟正黑體"/>
                  <a:ea typeface="微軟正黑體"/>
                </a:rPr>
                <a:t>書庫管理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矩形 39"/>
          <p:cNvSpPr/>
          <p:nvPr/>
        </p:nvSpPr>
        <p:spPr>
          <a:xfrm>
            <a:off x="611280" y="1552680"/>
            <a:ext cx="8211960" cy="13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矩形 40"/>
          <p:cNvSpPr/>
          <p:nvPr/>
        </p:nvSpPr>
        <p:spPr>
          <a:xfrm>
            <a:off x="324000" y="1989000"/>
            <a:ext cx="4105080" cy="41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lvl="1" marL="228600" indent="-22860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微軟正黑體"/>
              <a:buChar char="•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「我的最愛」功能：可將經常閱讀或最愛的書籍</a:t>
            </a:r>
            <a:r>
              <a:rPr b="0" lang="en-US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, </a:t>
            </a:r>
            <a:r>
              <a:rPr b="0" lang="zh-TW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設定閱讀順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微軟正黑體"/>
              <a:buChar char="•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書庫分類管理：設定分類資料夾，整理歸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直線接點 38"/>
          <p:cNvSpPr/>
          <p:nvPr/>
        </p:nvSpPr>
        <p:spPr>
          <a:xfrm flipV="1">
            <a:off x="755640" y="1552680"/>
            <a:ext cx="7929720" cy="1440"/>
          </a:xfrm>
          <a:prstGeom prst="line">
            <a:avLst/>
          </a:prstGeom>
          <a:ln w="25560">
            <a:solidFill>
              <a:srgbClr val="3d6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3" descr="E:\Maxine\圖片\教學影片-請點我.jpg"/>
          <p:cNvPicPr/>
          <p:nvPr/>
        </p:nvPicPr>
        <p:blipFill>
          <a:blip r:embed="rId1"/>
          <a:stretch/>
        </p:blipFill>
        <p:spPr>
          <a:xfrm>
            <a:off x="7451640" y="-6480"/>
            <a:ext cx="1146240" cy="1490760"/>
          </a:xfrm>
          <a:prstGeom prst="rect">
            <a:avLst/>
          </a:prstGeom>
          <a:ln w="0">
            <a:noFill/>
          </a:ln>
        </p:spPr>
      </p:pic>
      <p:pic>
        <p:nvPicPr>
          <p:cNvPr id="429" name="04-1書庫管理.mp4" descr=""/>
          <p:cNvPicPr/>
          <p:nvPr/>
        </p:nvPicPr>
        <p:blipFill>
          <a:blip r:embed="rId2"/>
          <a:stretch/>
        </p:blipFill>
        <p:spPr>
          <a:xfrm>
            <a:off x="4572000" y="1989000"/>
            <a:ext cx="4251240" cy="3189600"/>
          </a:xfrm>
          <a:prstGeom prst="rect">
            <a:avLst/>
          </a:prstGeom>
          <a:ln w="0">
            <a:noFill/>
          </a:ln>
        </p:spPr>
      </p:pic>
      <p:sp>
        <p:nvSpPr>
          <p:cNvPr id="430" name="流程圖: 延遲 27"/>
          <p:cNvSpPr/>
          <p:nvPr/>
        </p:nvSpPr>
        <p:spPr>
          <a:xfrm>
            <a:off x="4572000" y="5381640"/>
            <a:ext cx="2016000" cy="792000"/>
          </a:xfrm>
          <a:prstGeom prst="flowChartDelay">
            <a:avLst/>
          </a:prstGeom>
          <a:gradFill rotWithShape="0">
            <a:gsLst>
              <a:gs pos="0">
                <a:srgbClr val="d1403c"/>
              </a:gs>
              <a:gs pos="100000">
                <a:srgbClr val="ff9a99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回目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429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429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4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1" name="群組 16"/>
          <p:cNvGrpSpPr/>
          <p:nvPr/>
        </p:nvGrpSpPr>
        <p:grpSpPr>
          <a:xfrm>
            <a:off x="622440" y="730080"/>
            <a:ext cx="2830320" cy="866880"/>
            <a:chOff x="622440" y="730080"/>
            <a:chExt cx="2830320" cy="866880"/>
          </a:xfrm>
        </p:grpSpPr>
        <p:sp>
          <p:nvSpPr>
            <p:cNvPr id="432" name="圓角化同側角落矩形 21"/>
            <p:cNvSpPr/>
            <p:nvPr/>
          </p:nvSpPr>
          <p:spPr>
            <a:xfrm>
              <a:off x="622440" y="730080"/>
              <a:ext cx="2830320" cy="866880"/>
            </a:xfrm>
            <a:custGeom>
              <a:avLst/>
              <a:gdLst/>
              <a:ahLst/>
              <a:rect l="l" t="t" r="r" b="b"/>
              <a:pathLst>
                <a:path w="2880320" h="651686">
                  <a:moveTo>
                    <a:pt x="108636" y="0"/>
                  </a:moveTo>
                  <a:lnTo>
                    <a:pt x="2771684" y="0"/>
                  </a:lnTo>
                  <a:cubicBezTo>
                    <a:pt x="2831682" y="0"/>
                    <a:pt x="2880320" y="48638"/>
                    <a:pt x="2880320" y="108636"/>
                  </a:cubicBezTo>
                  <a:lnTo>
                    <a:pt x="2880320" y="651686"/>
                  </a:lnTo>
                  <a:lnTo>
                    <a:pt x="2880320" y="651686"/>
                  </a:lnTo>
                  <a:lnTo>
                    <a:pt x="0" y="651686"/>
                  </a:lnTo>
                  <a:lnTo>
                    <a:pt x="0" y="651686"/>
                  </a:lnTo>
                  <a:lnTo>
                    <a:pt x="0" y="108636"/>
                  </a:lnTo>
                  <a:cubicBezTo>
                    <a:pt x="0" y="48638"/>
                    <a:pt x="48638" y="0"/>
                    <a:pt x="108636" y="0"/>
                  </a:cubicBez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圓角化同側角落矩形 6"/>
            <p:cNvSpPr/>
            <p:nvPr/>
          </p:nvSpPr>
          <p:spPr>
            <a:xfrm>
              <a:off x="654120" y="772920"/>
              <a:ext cx="2766960" cy="824040"/>
            </a:xfrm>
            <a:prstGeom prst="rect">
              <a:avLst/>
            </a:prstGeom>
            <a:solidFill>
              <a:srgbClr val="3760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749"/>
                </a:spcAft>
                <a:tabLst>
                  <a:tab algn="l" pos="0"/>
                  <a:tab algn="l" pos="1778040"/>
                  <a:tab algn="l" pos="3556080"/>
                  <a:tab algn="l" pos="5334120"/>
                  <a:tab algn="l" pos="7112160"/>
                  <a:tab algn="l" pos="8889840"/>
                  <a:tab algn="l" pos="1066788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微軟正黑體"/>
                  <a:ea typeface="微軟正黑體"/>
                </a:rPr>
                <a:t>5.</a:t>
              </a:r>
              <a:r>
                <a:rPr b="1" lang="zh-TW" sz="4000" spc="-1" strike="noStrike">
                  <a:solidFill>
                    <a:srgbClr val="ffffff"/>
                  </a:solidFill>
                  <a:latin typeface="微軟正黑體"/>
                  <a:ea typeface="微軟正黑體"/>
                </a:rPr>
                <a:t>記事本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" name="矩形 19"/>
          <p:cNvSpPr/>
          <p:nvPr/>
        </p:nvSpPr>
        <p:spPr>
          <a:xfrm>
            <a:off x="622440" y="1608120"/>
            <a:ext cx="8210520" cy="13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矩形 20"/>
          <p:cNvSpPr/>
          <p:nvPr/>
        </p:nvSpPr>
        <p:spPr>
          <a:xfrm>
            <a:off x="468360" y="2001960"/>
            <a:ext cx="3805200" cy="28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lvl="1" marL="228600" indent="-22860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微軟正黑體"/>
              <a:buChar char="•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筆記與記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微軟正黑體"/>
              <a:buChar char="•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輸入模式：手寫、注音、拼音、英文輸入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微軟正黑體"/>
              <a:buChar char="•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筆記檔案儲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直線接點 18"/>
          <p:cNvSpPr/>
          <p:nvPr/>
        </p:nvSpPr>
        <p:spPr>
          <a:xfrm flipV="1">
            <a:off x="766800" y="1608120"/>
            <a:ext cx="7927920" cy="1440"/>
          </a:xfrm>
          <a:prstGeom prst="line">
            <a:avLst/>
          </a:prstGeom>
          <a:ln w="25560">
            <a:solidFill>
              <a:srgbClr val="3d6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3" descr="E:\Maxine\圖片\教學影片-請點我.jpg"/>
          <p:cNvPicPr/>
          <p:nvPr/>
        </p:nvPicPr>
        <p:blipFill>
          <a:blip r:embed="rId1"/>
          <a:stretch/>
        </p:blipFill>
        <p:spPr>
          <a:xfrm>
            <a:off x="7520040" y="44280"/>
            <a:ext cx="1146240" cy="1490760"/>
          </a:xfrm>
          <a:prstGeom prst="rect">
            <a:avLst/>
          </a:prstGeom>
          <a:ln w="0">
            <a:noFill/>
          </a:ln>
        </p:spPr>
      </p:pic>
      <p:sp>
        <p:nvSpPr>
          <p:cNvPr id="438" name="流程圖: 延遲 26"/>
          <p:cNvSpPr/>
          <p:nvPr/>
        </p:nvSpPr>
        <p:spPr>
          <a:xfrm>
            <a:off x="4572000" y="5445000"/>
            <a:ext cx="2016000" cy="792360"/>
          </a:xfrm>
          <a:prstGeom prst="flowChartDelay">
            <a:avLst/>
          </a:prstGeom>
          <a:gradFill rotWithShape="0">
            <a:gsLst>
              <a:gs pos="0">
                <a:srgbClr val="d1403c"/>
              </a:gs>
              <a:gs pos="100000">
                <a:srgbClr val="ff9a99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回目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05-記事本.mp4" descr=""/>
          <p:cNvPicPr/>
          <p:nvPr/>
        </p:nvPicPr>
        <p:blipFill>
          <a:blip r:embed="rId2"/>
          <a:stretch/>
        </p:blipFill>
        <p:spPr>
          <a:xfrm>
            <a:off x="4572000" y="1989000"/>
            <a:ext cx="42228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439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439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4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群組 60"/>
          <p:cNvGrpSpPr/>
          <p:nvPr/>
        </p:nvGrpSpPr>
        <p:grpSpPr>
          <a:xfrm>
            <a:off x="611280" y="712800"/>
            <a:ext cx="2832120" cy="868320"/>
            <a:chOff x="611280" y="712800"/>
            <a:chExt cx="2832120" cy="868320"/>
          </a:xfrm>
        </p:grpSpPr>
        <p:sp>
          <p:nvSpPr>
            <p:cNvPr id="441" name="圓角化同側角落矩形 65"/>
            <p:cNvSpPr/>
            <p:nvPr/>
          </p:nvSpPr>
          <p:spPr>
            <a:xfrm>
              <a:off x="611280" y="712800"/>
              <a:ext cx="2832120" cy="868320"/>
            </a:xfrm>
            <a:custGeom>
              <a:avLst/>
              <a:gdLst/>
              <a:ahLst/>
              <a:rect l="l" t="t" r="r" b="b"/>
              <a:pathLst>
                <a:path w="2880320" h="651686">
                  <a:moveTo>
                    <a:pt x="108636" y="0"/>
                  </a:moveTo>
                  <a:lnTo>
                    <a:pt x="2771684" y="0"/>
                  </a:lnTo>
                  <a:cubicBezTo>
                    <a:pt x="2831682" y="0"/>
                    <a:pt x="2880320" y="48638"/>
                    <a:pt x="2880320" y="108636"/>
                  </a:cubicBezTo>
                  <a:lnTo>
                    <a:pt x="2880320" y="651686"/>
                  </a:lnTo>
                  <a:lnTo>
                    <a:pt x="2880320" y="651686"/>
                  </a:lnTo>
                  <a:lnTo>
                    <a:pt x="0" y="651686"/>
                  </a:lnTo>
                  <a:lnTo>
                    <a:pt x="0" y="651686"/>
                  </a:lnTo>
                  <a:lnTo>
                    <a:pt x="0" y="108636"/>
                  </a:lnTo>
                  <a:cubicBezTo>
                    <a:pt x="0" y="48638"/>
                    <a:pt x="48638" y="0"/>
                    <a:pt x="108636" y="0"/>
                  </a:cubicBez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圓角化同側角落矩形 6"/>
            <p:cNvSpPr/>
            <p:nvPr/>
          </p:nvSpPr>
          <p:spPr>
            <a:xfrm>
              <a:off x="642960" y="755640"/>
              <a:ext cx="2768760" cy="825480"/>
            </a:xfrm>
            <a:prstGeom prst="rect">
              <a:avLst/>
            </a:prstGeom>
            <a:solidFill>
              <a:srgbClr val="3760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749"/>
                </a:spcAft>
                <a:tabLst>
                  <a:tab algn="l" pos="0"/>
                  <a:tab algn="l" pos="1778040"/>
                  <a:tab algn="l" pos="3556080"/>
                  <a:tab algn="l" pos="5334120"/>
                  <a:tab algn="l" pos="7112160"/>
                  <a:tab algn="l" pos="8889840"/>
                  <a:tab algn="l" pos="1066788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微軟正黑體"/>
                  <a:ea typeface="微軟正黑體"/>
                </a:rPr>
                <a:t>6.</a:t>
              </a:r>
              <a:r>
                <a:rPr b="1" lang="zh-TW" sz="4000" spc="-1" strike="noStrike">
                  <a:solidFill>
                    <a:srgbClr val="ffffff"/>
                  </a:solidFill>
                  <a:latin typeface="微軟正黑體"/>
                  <a:ea typeface="微軟正黑體"/>
                </a:rPr>
                <a:t>新聞匯總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矩形 63"/>
          <p:cNvSpPr/>
          <p:nvPr/>
        </p:nvSpPr>
        <p:spPr>
          <a:xfrm>
            <a:off x="611280" y="1590840"/>
            <a:ext cx="8211960" cy="13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矩形 64"/>
          <p:cNvSpPr/>
          <p:nvPr/>
        </p:nvSpPr>
        <p:spPr>
          <a:xfrm>
            <a:off x="466560" y="1989000"/>
            <a:ext cx="388944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lvl="1" marL="228600" indent="-22860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微軟正黑體"/>
              <a:buChar char="•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每日志工早會下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微軟正黑體"/>
              <a:buChar char="•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慈濟全球新聞下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微軟正黑體"/>
              <a:buChar char="•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Ｇ</a:t>
            </a:r>
            <a:r>
              <a:rPr b="0" lang="en-US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oogle</a:t>
            </a:r>
            <a:r>
              <a:rPr b="0" lang="zh-TW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新聞下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微軟正黑體"/>
              <a:buChar char="•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複製新聞重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微軟正黑體"/>
              <a:buChar char="•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朗讀新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微軟正黑體"/>
              <a:buChar char="•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保留新聞：可離線閱讀新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直線接點 62"/>
          <p:cNvSpPr/>
          <p:nvPr/>
        </p:nvSpPr>
        <p:spPr>
          <a:xfrm flipV="1">
            <a:off x="755640" y="1590840"/>
            <a:ext cx="7929720" cy="1440"/>
          </a:xfrm>
          <a:prstGeom prst="line">
            <a:avLst/>
          </a:prstGeom>
          <a:ln w="25560">
            <a:solidFill>
              <a:srgbClr val="3d6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3" descr="E:\Maxine\圖片\教學影片-請點我.jpg"/>
          <p:cNvPicPr/>
          <p:nvPr/>
        </p:nvPicPr>
        <p:blipFill>
          <a:blip r:embed="rId1"/>
          <a:stretch/>
        </p:blipFill>
        <p:spPr>
          <a:xfrm>
            <a:off x="7380360" y="0"/>
            <a:ext cx="1147680" cy="1490760"/>
          </a:xfrm>
          <a:prstGeom prst="rect">
            <a:avLst/>
          </a:prstGeom>
          <a:ln w="0">
            <a:noFill/>
          </a:ln>
        </p:spPr>
      </p:pic>
      <p:sp>
        <p:nvSpPr>
          <p:cNvPr id="447" name="流程圖: 延遲 26"/>
          <p:cNvSpPr/>
          <p:nvPr/>
        </p:nvSpPr>
        <p:spPr>
          <a:xfrm>
            <a:off x="4572000" y="5445000"/>
            <a:ext cx="2016000" cy="792360"/>
          </a:xfrm>
          <a:prstGeom prst="flowChartDelay">
            <a:avLst/>
          </a:prstGeom>
          <a:gradFill rotWithShape="0">
            <a:gsLst>
              <a:gs pos="0">
                <a:srgbClr val="d1403c"/>
              </a:gs>
              <a:gs pos="100000">
                <a:srgbClr val="ff9a99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回目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06-新聞匯總.mp4" descr=""/>
          <p:cNvPicPr/>
          <p:nvPr/>
        </p:nvPicPr>
        <p:blipFill>
          <a:blip r:embed="rId2"/>
          <a:stretch/>
        </p:blipFill>
        <p:spPr>
          <a:xfrm>
            <a:off x="4619520" y="1995480"/>
            <a:ext cx="4276800" cy="32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448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448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4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sus</dc:creator>
  <dc:description/>
  <dc:language>en-US</dc:language>
  <cp:lastModifiedBy>asus</cp:lastModifiedBy>
  <dcterms:modified xsi:type="dcterms:W3CDTF">2014-04-24T09:45:24Z</dcterms:modified>
  <cp:revision>129</cp:revision>
  <dc:subject/>
  <dc:title>靜思電子書 教學影片</dc:title>
</cp:coreProperties>
</file>